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48488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7F4-A128-4F70-B86C-55DC9B46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270-7576-47CA-8E4A-0C17B765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B12-7DC5-45CD-BDAD-44DCAB06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54E-E5FA-4A02-8477-9F5397EE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83D-8523-4C9F-9993-8960088A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059-6579-4000-BE96-C90DB6D4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E4D-A1AD-4C52-8370-45B97776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6E1-B3CE-4A3D-88B0-ABF8D08A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14B-D33E-48DE-9412-7C422B2F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B9F-9B86-4FBB-AD79-55A3206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6D5-CF63-43A3-8D85-DECEA975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F0B-F3DA-4865-93CD-2D49F175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F7E7-DD54-43EF-864B-2CA4ADA1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dio Mixing for Interactive Multimedia Commun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ustín J. González and Hussein Abdel-Hah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ment of Computer Science, Old Domini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62E-2145-4FC8-A4CA-24DAD76E8C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packet arriv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Find/allocate que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queu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receiving a new packet from local audio de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queue front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- sum - front packets (overflow preca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ust sampl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438280"/>
            <a:ext cx="520560" cy="139680"/>
          </a:xfrm>
          <a:prstGeom prst="rightArrow">
            <a:avLst>
              <a:gd name="adj1" fmla="val 50000"/>
              <a:gd name="adj2" fmla="val 18635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1480" y="1682640"/>
            <a:ext cx="20444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676520"/>
            <a:ext cx="0" cy="9903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1981080"/>
            <a:ext cx="20574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2362320"/>
            <a:ext cx="20574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2057400"/>
            <a:ext cx="0" cy="228600"/>
          </a:xfrm>
          <a:prstGeom prst="line">
            <a:avLst/>
          </a:prstGeom>
          <a:ln w="1260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2057400"/>
            <a:ext cx="0" cy="228600"/>
          </a:xfrm>
          <a:prstGeom prst="line">
            <a:avLst/>
          </a:prstGeom>
          <a:ln w="1260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52280" y="13539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urce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93480" y="1353960"/>
            <a:ext cx="152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ast tim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00360" y="16588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48080" y="242100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568-3558-4572-B5A9-FEAE2D9D17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2193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packet arriv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/allocate que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queu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receiving a new packet from local audio de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queue front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nt packets (overflow preca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djust sampl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4343400"/>
            <a:ext cx="520560" cy="139680"/>
          </a:xfrm>
          <a:prstGeom prst="rightArrow">
            <a:avLst>
              <a:gd name="adj1" fmla="val 50000"/>
              <a:gd name="adj2" fmla="val 18635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191120"/>
            <a:ext cx="144792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l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349-0ED3-446B-A9B5-C842AFFC60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Adjustment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for (int i = 0; i &lt; PacketSize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s = MixBuff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if ( s &gt; MaxSampl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s = MaxSamp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if ( s &lt; -MaxS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s = -MaxSamp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out[i] = 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B82-1C3D-4ECD-A3F1-2626B1276E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0" y="60948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Adjustment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295280"/>
            <a:ext cx="3733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(int i = 0; i &lt; PacketSize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= MixBuff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s &gt; MaxSampl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= MaxSamp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s &lt; -MaxS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= -MaxSamp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[i] = 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1295280"/>
            <a:ext cx="4495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float f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for (int i = 0; i &lt; PacketSize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s = (int) (MixBuff[i] * 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if (abs(s) &gt; MaxS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f = ( (float) MaxSample) / MixBuff[i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if ( s &gt; MaxSampl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s = MaxSamp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if ( s &lt; -MaxS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s = -MaxSamp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out[i] = 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4D2-A4FC-4D25-8B44-BC4E15AEE8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ment of Multiple Queue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mixing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10552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62520" y="3276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2767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E0E-7604-4DB4-B5B5-30C4C83B9F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for Single Buffer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mixing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6680" y="3006720"/>
            <a:ext cx="114120" cy="365040"/>
          </a:xfrm>
          <a:prstGeom prst="downArrow">
            <a:avLst>
              <a:gd name="adj1" fmla="val 50000"/>
              <a:gd name="adj2" fmla="val 7996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75120" y="3006720"/>
            <a:ext cx="114120" cy="365040"/>
          </a:xfrm>
          <a:prstGeom prst="downArrow">
            <a:avLst>
              <a:gd name="adj1" fmla="val 50000"/>
              <a:gd name="adj2" fmla="val 7996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7600" y="3048120"/>
            <a:ext cx="4377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On packet arrival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Read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Find/allocate queue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Enqueue and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add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 with previous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On receiving a new packet from local audio device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Dequeue packet - mixed audio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Adjust sample 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Play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3048120"/>
            <a:ext cx="4724280" cy="2361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8C4-97B4-4907-8241-B2B38EDF33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1960" y="106632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 is an important component of any interactive multimedia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fficient mixing technique is essential to support multiple audio stream re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ixing algorithm works in real-time for any number of potential audio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3D2-EE98-4844-A871-8213E4173A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3733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eracti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truction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teractive multimedia collaboration system developed at O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1920" y="2362320"/>
            <a:ext cx="291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RI Virtual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ri-class-color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543800" cy="312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538-AB80-40B4-9933-DB9DE09DD1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642360" cy="516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019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acti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truction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R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0640" y="954000"/>
            <a:ext cx="895320" cy="533520"/>
          </a:xfrm>
          <a:custGeom>
            <a:avLst/>
            <a:gdLst/>
            <a:ahLst/>
            <a:rect l="l" t="t" r="r" b="b"/>
            <a:pathLst>
              <a:path w="564" h="336">
                <a:moveTo>
                  <a:pt x="420" y="0"/>
                </a:moveTo>
                <a:lnTo>
                  <a:pt x="344" y="24"/>
                </a:lnTo>
                <a:lnTo>
                  <a:pt x="267" y="43"/>
                </a:lnTo>
                <a:lnTo>
                  <a:pt x="190" y="63"/>
                </a:lnTo>
                <a:lnTo>
                  <a:pt x="114" y="83"/>
                </a:lnTo>
                <a:lnTo>
                  <a:pt x="105" y="91"/>
                </a:lnTo>
                <a:lnTo>
                  <a:pt x="95" y="97"/>
                </a:lnTo>
                <a:lnTo>
                  <a:pt x="85" y="100"/>
                </a:lnTo>
                <a:lnTo>
                  <a:pt x="74" y="103"/>
                </a:lnTo>
                <a:lnTo>
                  <a:pt x="64" y="109"/>
                </a:lnTo>
                <a:lnTo>
                  <a:pt x="52" y="119"/>
                </a:lnTo>
                <a:lnTo>
                  <a:pt x="41" y="126"/>
                </a:lnTo>
                <a:lnTo>
                  <a:pt x="39" y="128"/>
                </a:lnTo>
                <a:lnTo>
                  <a:pt x="37" y="129"/>
                </a:lnTo>
                <a:lnTo>
                  <a:pt x="27" y="148"/>
                </a:lnTo>
                <a:lnTo>
                  <a:pt x="16" y="166"/>
                </a:lnTo>
                <a:lnTo>
                  <a:pt x="6" y="185"/>
                </a:lnTo>
                <a:lnTo>
                  <a:pt x="0" y="205"/>
                </a:lnTo>
                <a:lnTo>
                  <a:pt x="2" y="228"/>
                </a:lnTo>
                <a:lnTo>
                  <a:pt x="4" y="246"/>
                </a:lnTo>
                <a:lnTo>
                  <a:pt x="6" y="261"/>
                </a:lnTo>
                <a:lnTo>
                  <a:pt x="10" y="272"/>
                </a:lnTo>
                <a:lnTo>
                  <a:pt x="16" y="281"/>
                </a:lnTo>
                <a:lnTo>
                  <a:pt x="29" y="287"/>
                </a:lnTo>
                <a:lnTo>
                  <a:pt x="43" y="294"/>
                </a:lnTo>
                <a:lnTo>
                  <a:pt x="64" y="301"/>
                </a:lnTo>
                <a:lnTo>
                  <a:pt x="76" y="309"/>
                </a:lnTo>
                <a:lnTo>
                  <a:pt x="87" y="315"/>
                </a:lnTo>
                <a:lnTo>
                  <a:pt x="112" y="324"/>
                </a:lnTo>
                <a:lnTo>
                  <a:pt x="136" y="329"/>
                </a:lnTo>
                <a:lnTo>
                  <a:pt x="165" y="333"/>
                </a:lnTo>
                <a:lnTo>
                  <a:pt x="186" y="333"/>
                </a:lnTo>
                <a:lnTo>
                  <a:pt x="207" y="333"/>
                </a:lnTo>
                <a:lnTo>
                  <a:pt x="255" y="335"/>
                </a:lnTo>
                <a:lnTo>
                  <a:pt x="306" y="335"/>
                </a:lnTo>
                <a:lnTo>
                  <a:pt x="358" y="333"/>
                </a:lnTo>
                <a:lnTo>
                  <a:pt x="412" y="327"/>
                </a:lnTo>
                <a:lnTo>
                  <a:pt x="437" y="323"/>
                </a:lnTo>
                <a:lnTo>
                  <a:pt x="462" y="315"/>
                </a:lnTo>
                <a:lnTo>
                  <a:pt x="484" y="307"/>
                </a:lnTo>
                <a:lnTo>
                  <a:pt x="505" y="297"/>
                </a:lnTo>
                <a:lnTo>
                  <a:pt x="526" y="284"/>
                </a:lnTo>
                <a:lnTo>
                  <a:pt x="542" y="269"/>
                </a:lnTo>
                <a:lnTo>
                  <a:pt x="546" y="255"/>
                </a:lnTo>
                <a:lnTo>
                  <a:pt x="551" y="246"/>
                </a:lnTo>
                <a:lnTo>
                  <a:pt x="553" y="240"/>
                </a:lnTo>
                <a:lnTo>
                  <a:pt x="553" y="235"/>
                </a:lnTo>
                <a:lnTo>
                  <a:pt x="555" y="232"/>
                </a:lnTo>
                <a:lnTo>
                  <a:pt x="557" y="228"/>
                </a:lnTo>
                <a:lnTo>
                  <a:pt x="559" y="221"/>
                </a:lnTo>
                <a:lnTo>
                  <a:pt x="563" y="212"/>
                </a:lnTo>
                <a:lnTo>
                  <a:pt x="561" y="183"/>
                </a:lnTo>
                <a:lnTo>
                  <a:pt x="559" y="168"/>
                </a:lnTo>
                <a:lnTo>
                  <a:pt x="555" y="154"/>
                </a:lnTo>
                <a:lnTo>
                  <a:pt x="551" y="143"/>
                </a:lnTo>
                <a:lnTo>
                  <a:pt x="544" y="134"/>
                </a:lnTo>
                <a:lnTo>
                  <a:pt x="526" y="119"/>
                </a:lnTo>
                <a:lnTo>
                  <a:pt x="505" y="106"/>
                </a:lnTo>
                <a:lnTo>
                  <a:pt x="484" y="97"/>
                </a:lnTo>
                <a:lnTo>
                  <a:pt x="439" y="82"/>
                </a:lnTo>
                <a:lnTo>
                  <a:pt x="391" y="70"/>
                </a:lnTo>
                <a:lnTo>
                  <a:pt x="298" y="45"/>
                </a:lnTo>
                <a:lnTo>
                  <a:pt x="277" y="31"/>
                </a:lnTo>
                <a:lnTo>
                  <a:pt x="250" y="19"/>
                </a:lnTo>
                <a:lnTo>
                  <a:pt x="223" y="10"/>
                </a:lnTo>
                <a:lnTo>
                  <a:pt x="209" y="8"/>
                </a:lnTo>
                <a:lnTo>
                  <a:pt x="197" y="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6680" y="669960"/>
            <a:ext cx="1777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udio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5CD-49C9-4D8E-83FE-751F90B5B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10663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o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lability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IP-Multicasting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-to-end delay and Bandwidth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Silence detec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yback of multiple audio stream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Audio Mixing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o feedback and echo     ( Echo suppression/cancell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48720" y="30481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CC5-E1C2-48E6-9D31-81AE220E56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bac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66800" y="1819440"/>
          <a:ext cx="5823000" cy="170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1819440"/>
                    <a:ext cx="5823000" cy="1707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08760" y="3706920"/>
            <a:ext cx="5950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audio device plays only one stream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for multiple streams 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o streams are not continuos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audio sample range of output audio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055-AA62-4AA7-8BCF-8BC6CFF0E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Audio Streams Playbac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05120" y="1447920"/>
          <a:ext cx="5483160" cy="180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5483160" cy="1806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88200" y="1066680"/>
            <a:ext cx="118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5240" y="3505320"/>
            <a:ext cx="104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523880" y="3962520"/>
            <a:ext cx="6400800" cy="1829880"/>
            <a:chOff x="1523880" y="3962520"/>
            <a:chExt cx="6400800" cy="1829880"/>
          </a:xfrm>
        </p:grpSpPr>
        <p:sp>
          <p:nvSpPr>
            <p:cNvPr id="64" name=""/>
            <p:cNvSpPr/>
            <p:nvPr/>
          </p:nvSpPr>
          <p:spPr>
            <a:xfrm>
              <a:off x="1523880" y="3963600"/>
              <a:ext cx="640080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12600" y="4295520"/>
              <a:ext cx="1113480" cy="129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69400" y="4034160"/>
              <a:ext cx="761760" cy="168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04680" y="4290120"/>
              <a:ext cx="1617840" cy="1175040"/>
              <a:chOff x="1804680" y="4290120"/>
              <a:chExt cx="1617840" cy="1175040"/>
            </a:xfrm>
          </p:grpSpPr>
          <p:sp>
            <p:nvSpPr>
              <p:cNvPr id="68" name=""/>
              <p:cNvSpPr/>
              <p:nvPr/>
            </p:nvSpPr>
            <p:spPr>
              <a:xfrm>
                <a:off x="1804680" y="4420440"/>
                <a:ext cx="161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804680" y="4746960"/>
                <a:ext cx="161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1874880" y="429012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1945080" y="429012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015640" y="429012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2085840" y="429012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2156040" y="429012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2226600" y="429012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2297160" y="429012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2719080" y="4616280"/>
                <a:ext cx="210960" cy="130320"/>
                <a:chOff x="2719080" y="4616280"/>
                <a:chExt cx="210960" cy="130320"/>
              </a:xfrm>
            </p:grpSpPr>
            <p:sp>
              <p:nvSpPr>
                <p:cNvPr id="78" name=""/>
                <p:cNvSpPr/>
                <p:nvPr/>
              </p:nvSpPr>
              <p:spPr>
                <a:xfrm flipV="1">
                  <a:off x="271908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V="1">
                  <a:off x="278892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293004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285948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226600" y="4616280"/>
                <a:ext cx="421920" cy="130320"/>
                <a:chOff x="2226600" y="4616280"/>
                <a:chExt cx="421920" cy="130320"/>
              </a:xfrm>
            </p:grpSpPr>
            <p:sp>
              <p:nvSpPr>
                <p:cNvPr id="83" name=""/>
                <p:cNvSpPr/>
                <p:nvPr/>
              </p:nvSpPr>
              <p:spPr>
                <a:xfrm flipV="1">
                  <a:off x="222660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229680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236700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243756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250776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257796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V="1">
                  <a:off x="2648520" y="461628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930040" y="4290120"/>
                <a:ext cx="210960" cy="130320"/>
                <a:chOff x="2930040" y="4290120"/>
                <a:chExt cx="210960" cy="130320"/>
              </a:xfrm>
            </p:grpSpPr>
            <p:sp>
              <p:nvSpPr>
                <p:cNvPr id="91" name=""/>
                <p:cNvSpPr/>
                <p:nvPr/>
              </p:nvSpPr>
              <p:spPr>
                <a:xfrm flipV="1">
                  <a:off x="2930040" y="429012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2999880" y="429012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3141000" y="429012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3070440" y="4290120"/>
                  <a:ext cx="0" cy="1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2508120" y="4942800"/>
                <a:ext cx="0" cy="522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337280" y="4551480"/>
              <a:ext cx="161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37280" y="4878000"/>
              <a:ext cx="161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689000" y="4420800"/>
              <a:ext cx="0" cy="130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829760" y="4420800"/>
              <a:ext cx="0" cy="1303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62640" y="4747320"/>
              <a:ext cx="0" cy="130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970160" y="4747320"/>
              <a:ext cx="0" cy="1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040720" y="4747320"/>
              <a:ext cx="0" cy="1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181120" y="4747320"/>
              <a:ext cx="0" cy="130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673600" y="4420800"/>
              <a:ext cx="0" cy="130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40720" y="5073840"/>
              <a:ext cx="0" cy="52272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74600" y="4355640"/>
              <a:ext cx="28116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04040" y="4682160"/>
              <a:ext cx="28116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899960" y="4420800"/>
              <a:ext cx="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22240" y="4747320"/>
              <a:ext cx="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4692960"/>
              <a:ext cx="398520" cy="500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9720" y="4812840"/>
              <a:ext cx="0" cy="26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799320" y="4943520"/>
              <a:ext cx="280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36280" y="4551480"/>
              <a:ext cx="4219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4878000"/>
              <a:ext cx="5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77400" y="4943520"/>
              <a:ext cx="0" cy="58752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51040" y="4943520"/>
              <a:ext cx="70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79320" y="3962520"/>
              <a:ext cx="82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n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6480" y="4027320"/>
              <a:ext cx="90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48880" y="5073840"/>
              <a:ext cx="89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33200" y="3962520"/>
              <a:ext cx="114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971-4C85-4847-A435-E62E5CA85B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6854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52480" y="1676520"/>
          <a:ext cx="534672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5346720" cy="2895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894400" y="4952880"/>
            <a:ext cx="266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How many queu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71A-018B-45BE-8CAE-27FF5543EE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ing Number of Que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1371600"/>
          <a:ext cx="6172200" cy="27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6172200" cy="273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900000" y="4471920"/>
            <a:ext cx="725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-multiplex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ps incoming streams into a number of queues us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ast-recently-u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llocation strate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E6C-62BD-494A-B80A-EAEAE81F5A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133720" y="4267080"/>
          <a:ext cx="472428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267080"/>
                    <a:ext cx="4724280" cy="1905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440" y="5331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2388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 packet arri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d/allocate que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queue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 receiving a new packet from local audio de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queue front pack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d front packets (overflow preca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just sample ran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1905120"/>
            <a:ext cx="672840" cy="215640"/>
          </a:xfrm>
          <a:prstGeom prst="leftArrow">
            <a:avLst>
              <a:gd name="adj1" fmla="val 50000"/>
              <a:gd name="adj2" fmla="val 15599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657600"/>
            <a:ext cx="673200" cy="216000"/>
          </a:xfrm>
          <a:prstGeom prst="leftArrow">
            <a:avLst>
              <a:gd name="adj1" fmla="val 50000"/>
              <a:gd name="adj2" fmla="val 15581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76720"/>
            <a:ext cx="520560" cy="145800"/>
          </a:xfrm>
          <a:prstGeom prst="leftArrow">
            <a:avLst>
              <a:gd name="adj1" fmla="val 50000"/>
              <a:gd name="adj2" fmla="val 1785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E41-02AF-49A0-8D06-2AF0A4FEC6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6:15:34Z</dcterms:created>
  <dc:creator>Agustín J. González</dc:creator>
  <dc:description/>
  <dc:language>en-US</dc:language>
  <cp:lastModifiedBy>Agustín J. González</cp:lastModifiedBy>
  <cp:lastPrinted>1998-10-23T20:14:59Z</cp:lastPrinted>
  <dcterms:modified xsi:type="dcterms:W3CDTF">1999-04-17T15:42:59Z</dcterms:modified>
  <cp:revision>18</cp:revision>
  <dc:subject/>
  <dc:title>Audio Mixing for Interactive Multimedia Communications</dc:title>
</cp:coreProperties>
</file>