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6A90-7FA1-4B99-8D17-AFAB56012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8505-688E-4116-86CB-952C0019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FC26-95F7-4084-9404-877435538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E48C-2A14-433A-A02F-D9B700E71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BC02-60EE-480D-BE0C-8D07EDCE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123D-F38D-475E-BBC4-A8746964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D238-154B-4CAB-82C9-D316CEEB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18D9-BC75-4795-A4AE-93A7E412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A99B-5138-4F14-B05A-37E5090A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AF07-C71C-4C12-A39A-5AFBCDFB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2089-917D-4130-886E-4FCC5E4A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67F8-9F82-4F4A-81DF-4E0F3D7F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B8AF-78EE-4671-A023-11587FBE0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erl.com/" TargetMode="External"/><Relationship Id="rId3" Type="http://schemas.openxmlformats.org/officeDocument/2006/relationships/hyperlink" Target="http://www.perl.com/" TargetMode="External"/><Relationship Id="rId4" Type="http://schemas.openxmlformats.org/officeDocument/2006/relationships/hyperlink" Target="http://www.perl.com/" TargetMode="External"/><Relationship Id="rId5" Type="http://schemas.openxmlformats.org/officeDocument/2006/relationships/hyperlink" Target="http://www.perl.com/" TargetMode="External"/><Relationship Id="rId6" Type="http://schemas.openxmlformats.org/officeDocument/2006/relationships/hyperlink" Target="http://www.perl.com/" TargetMode="External"/><Relationship Id="rId7" Type="http://schemas.openxmlformats.org/officeDocument/2006/relationships/hyperlink" Target="http://www.perl.com/" TargetMode="External"/><Relationship Id="rId8" Type="http://schemas.openxmlformats.org/officeDocument/2006/relationships/hyperlink" Target="http://www.perl.com/" TargetMode="External"/><Relationship Id="rId9" Type="http://schemas.openxmlformats.org/officeDocument/2006/relationships/hyperlink" Target="http://lyapunov.elo.utfsm.cl/users/skywolf/Perl/" TargetMode="External"/><Relationship Id="rId10" Type="http://schemas.openxmlformats.org/officeDocument/2006/relationships/hyperlink" Target="http://lyapunov.elo.utfsm.cl/users/skywolf/Perl/" TargetMode="External"/><Relationship Id="rId11" Type="http://schemas.openxmlformats.org/officeDocument/2006/relationships/hyperlink" Target="http://lyapunov.elo.utfsm.cl/users/skywolf/Perl/" TargetMode="External"/><Relationship Id="rId12" Type="http://schemas.openxmlformats.org/officeDocument/2006/relationships/hyperlink" Target="http://lyapunov.elo.utfsm.cl/users/skywolf/Perl/" TargetMode="External"/><Relationship Id="rId13" Type="http://schemas.openxmlformats.org/officeDocument/2006/relationships/hyperlink" Target="http://lyapunov.elo.utfsm.cl/users/skywolf/Perl/" TargetMode="External"/><Relationship Id="rId14" Type="http://schemas.openxmlformats.org/officeDocument/2006/relationships/hyperlink" Target="http://lyapunov.elo.utfsm.cl/users/skywolf/Perl/" TargetMode="External"/><Relationship Id="rId15" Type="http://schemas.openxmlformats.org/officeDocument/2006/relationships/hyperlink" Target="http://lyapunov.elo.utfsm.cl/users/skywolf/Perl/" TargetMode="External"/><Relationship Id="rId16" Type="http://schemas.openxmlformats.org/officeDocument/2006/relationships/hyperlink" Target="http://lyapunov.elo.utfsm.cl/users/skywolf/Perl/" TargetMode="External"/><Relationship Id="rId17" Type="http://schemas.openxmlformats.org/officeDocument/2006/relationships/hyperlink" Target="http://lyapunov.elo.utfsm.cl/users/skywolf/Perl/" TargetMode="External"/><Relationship Id="rId18" Type="http://schemas.openxmlformats.org/officeDocument/2006/relationships/hyperlink" Target="http://lyapunov.elo.utfsm.cl/users/skywolf/Perl/" TargetMode="External"/><Relationship Id="rId19" Type="http://schemas.openxmlformats.org/officeDocument/2006/relationships/hyperlink" Target="http://lyapunov.elo.utfsm.cl/users/skywolf/Perl/" TargetMode="External"/><Relationship Id="rId20" Type="http://schemas.openxmlformats.org/officeDocument/2006/relationships/hyperlink" Target="http://lyapunov.elo.utfsm.cl/users/skywolf/Perl/" TargetMode="External"/><Relationship Id="rId21" Type="http://schemas.openxmlformats.org/officeDocument/2006/relationships/hyperlink" Target="http://lyapunov.elo.utfsm.cl/users/skywolf/Perl/" TargetMode="External"/><Relationship Id="rId22" Type="http://schemas.openxmlformats.org/officeDocument/2006/relationships/hyperlink" Target="http://lyapunov.elo.utfsm.cl/users/skywolf/Perl/" TargetMode="External"/><Relationship Id="rId23" Type="http://schemas.openxmlformats.org/officeDocument/2006/relationships/image" Target="../media/image3.pn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8305560" cy="2286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 Narrow"/>
              </a:rPr>
              <a:t>Servicio de Encuestas </a:t>
            </a:r>
            <a:br>
              <a:rPr sz="4800"/>
            </a:br>
            <a:r>
              <a:rPr b="0" lang="en-US" sz="6000" spc="-1" strike="noStrike">
                <a:solidFill>
                  <a:srgbClr val="3333cc"/>
                </a:solidFill>
                <a:latin typeface="Arial Narrow"/>
              </a:rPr>
              <a:t>ON-LI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Setup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8305560" cy="2057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362320" y="1522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 Narrow"/>
              </a:rPr>
              <a:t>SEMINARIO  I          </a:t>
            </a:r>
            <a:r>
              <a:rPr b="0" i="1" lang="en-US" sz="2400" spc="-1" strike="noStrike">
                <a:solidFill>
                  <a:srgbClr val="ffffff"/>
                </a:solidFill>
                <a:latin typeface="Arial Narrow"/>
              </a:rPr>
              <a:t>2do semestre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57800" y="5486400"/>
            <a:ext cx="441972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rofesor: Agustín Gonzál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lumno : Sergio Cor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ROL:9321026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utfsm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143000" cy="8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990720"/>
            <a:ext cx="8305560" cy="12189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 Narrow"/>
              </a:rPr>
              <a:t>Objetivos: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2438280"/>
            <a:ext cx="403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abilitar en una página WEB, un servicio, en el cual un profesor pueda realizar todo tipo de encuestas de opinión ON-LINE, entre los alumnos, ya sea por calidad de enseñanza, evaluación entre los mismos compañeros, facilitando el flujo de información alumno-profes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utfsm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143000" cy="884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362320" y="1522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 Narrow"/>
              </a:rPr>
              <a:t>SEMINARIO  I          </a:t>
            </a:r>
            <a:r>
              <a:rPr b="0" i="1" lang="en-US" sz="2400" spc="-1" strike="noStrike">
                <a:solidFill>
                  <a:srgbClr val="ffffff"/>
                </a:solidFill>
                <a:latin typeface="Arial Narrow"/>
              </a:rPr>
              <a:t>2do semestre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26668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 s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cesit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40384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nguaje (CGI)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4724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idor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2920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esos de Escritura en el Servidor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990720"/>
            <a:ext cx="8305560" cy="9903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mo Interactu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utfsm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143000" cy="884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362320" y="1522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 Narrow"/>
              </a:rPr>
              <a:t>SEMINARIO  I          </a:t>
            </a:r>
            <a:r>
              <a:rPr b="0" i="1" lang="en-US" sz="2400" spc="-1" strike="noStrike">
                <a:solidFill>
                  <a:srgbClr val="ffffff"/>
                </a:solidFill>
                <a:latin typeface="Arial Narrow"/>
              </a:rPr>
              <a:t>2do semestre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rapel2" descr=""/>
          <p:cNvPicPr/>
          <p:nvPr/>
        </p:nvPicPr>
        <p:blipFill>
          <a:blip r:embed="rId3"/>
          <a:stretch/>
        </p:blipFill>
        <p:spPr>
          <a:xfrm>
            <a:off x="533520" y="2133720"/>
            <a:ext cx="1904760" cy="1498320"/>
          </a:xfrm>
          <a:prstGeom prst="rect">
            <a:avLst/>
          </a:prstGeom>
          <a:ln w="0">
            <a:noFill/>
          </a:ln>
        </p:spPr>
      </p:pic>
      <p:pic>
        <p:nvPicPr>
          <p:cNvPr id="58" name="valdivia" descr=""/>
          <p:cNvPicPr/>
          <p:nvPr/>
        </p:nvPicPr>
        <p:blipFill>
          <a:blip r:embed="rId4"/>
          <a:stretch/>
        </p:blipFill>
        <p:spPr>
          <a:xfrm>
            <a:off x="4648320" y="4419720"/>
            <a:ext cx="2514600" cy="1831680"/>
          </a:xfrm>
          <a:prstGeom prst="rect">
            <a:avLst/>
          </a:prstGeom>
          <a:ln w="0">
            <a:noFill/>
          </a:ln>
        </p:spPr>
      </p:pic>
      <p:pic>
        <p:nvPicPr>
          <p:cNvPr id="59" name="sala2" descr=""/>
          <p:cNvPicPr/>
          <p:nvPr/>
        </p:nvPicPr>
        <p:blipFill>
          <a:blip r:embed="rId5"/>
          <a:stretch/>
        </p:blipFill>
        <p:spPr>
          <a:xfrm>
            <a:off x="6324480" y="2057400"/>
            <a:ext cx="2133720" cy="1701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0880" y="3429000"/>
            <a:ext cx="213372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3581280"/>
            <a:ext cx="213372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91120" y="6095880"/>
            <a:ext cx="35049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rvidor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6019920"/>
            <a:ext cx="236196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ágina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181480"/>
            <a:ext cx="236196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GI (PER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4343400"/>
            <a:ext cx="2362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38280" y="2895480"/>
            <a:ext cx="2286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2895480"/>
            <a:ext cx="0" cy="15242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86400" y="2895480"/>
            <a:ext cx="8380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2895480"/>
            <a:ext cx="0" cy="15242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3720" y="6172200"/>
            <a:ext cx="10652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362320" y="5638320"/>
            <a:ext cx="0" cy="3812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362320" y="4800600"/>
            <a:ext cx="0" cy="3808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4800600"/>
            <a:ext cx="0" cy="3808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5638680"/>
            <a:ext cx="0" cy="3812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6400800"/>
            <a:ext cx="106704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715000" y="3048120"/>
            <a:ext cx="0" cy="13716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3048120"/>
            <a:ext cx="6094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952880" y="2666520"/>
            <a:ext cx="0" cy="17528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437920" y="2666880"/>
            <a:ext cx="251460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990720"/>
            <a:ext cx="8305560" cy="12952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 Narrow"/>
              </a:rPr>
              <a:t>El Lenguaje: CG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utfsm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143000" cy="8845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362320" y="1522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 Narrow"/>
              </a:rPr>
              <a:t>SEMINARIO  I          </a:t>
            </a:r>
            <a:r>
              <a:rPr b="0" i="1" lang="en-US" sz="2400" spc="-1" strike="noStrike">
                <a:solidFill>
                  <a:srgbClr val="ffffff"/>
                </a:solidFill>
                <a:latin typeface="Arial Narrow"/>
              </a:rPr>
              <a:t>2do semestre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43200" y="2743200"/>
            <a:ext cx="3352680" cy="459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4495680"/>
            <a:ext cx="45720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ear Páginas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5257800"/>
            <a:ext cx="45720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ringir el ac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5943600"/>
            <a:ext cx="45720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r Formul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3733920"/>
            <a:ext cx="45720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ejo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19520" y="3200400"/>
            <a:ext cx="360" cy="3048120"/>
          </a:xfrm>
          <a:prstGeom prst="line">
            <a:avLst/>
          </a:prstGeom>
          <a:noFill/>
          <a:ln w="76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4724280"/>
            <a:ext cx="990720" cy="360"/>
          </a:xfrm>
          <a:prstGeom prst="line">
            <a:avLst/>
          </a:prstGeom>
          <a:noFill/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5486400"/>
            <a:ext cx="990720" cy="360"/>
          </a:xfrm>
          <a:prstGeom prst="line">
            <a:avLst/>
          </a:prstGeom>
          <a:noFill/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480" y="6172200"/>
            <a:ext cx="990720" cy="360"/>
          </a:xfrm>
          <a:prstGeom prst="line">
            <a:avLst/>
          </a:prstGeom>
          <a:noFill/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3962520"/>
            <a:ext cx="990720" cy="360"/>
          </a:xfrm>
          <a:prstGeom prst="line">
            <a:avLst/>
          </a:prstGeom>
          <a:noFill/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990720"/>
            <a:ext cx="8305560" cy="1371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 Narrow"/>
              </a:rPr>
              <a:t>Problema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utfsm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143000" cy="884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362320" y="1522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 Narrow"/>
              </a:rPr>
              <a:t>SEMINARIO  I          </a:t>
            </a:r>
            <a:r>
              <a:rPr b="0" i="1" lang="en-US" sz="2400" spc="-1" strike="noStrike">
                <a:solidFill>
                  <a:srgbClr val="ffffff"/>
                </a:solidFill>
                <a:latin typeface="Arial Narrow"/>
              </a:rPr>
              <a:t>2do semestre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6095880"/>
            <a:ext cx="464832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ar una Interfaz agrad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5791320"/>
            <a:ext cx="360" cy="304560"/>
          </a:xfrm>
          <a:prstGeom prst="lin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334120"/>
            <a:ext cx="464796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egurar en anonim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5029200"/>
            <a:ext cx="360" cy="304920"/>
          </a:xfrm>
          <a:prstGeom prst="lin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05320" y="4191120"/>
            <a:ext cx="4647960" cy="825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vitar que 2 personas accesen al mismo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3886200"/>
            <a:ext cx="360" cy="304920"/>
          </a:xfrm>
          <a:prstGeom prst="lin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3352680"/>
            <a:ext cx="464796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itar que una persona vote 2 ve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2743200"/>
            <a:ext cx="360" cy="609480"/>
          </a:xfrm>
          <a:prstGeom prst="lin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utfsm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143000" cy="884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362320" y="1522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 Narrow"/>
              </a:rPr>
              <a:t>SEMINARIO  I          </a:t>
            </a:r>
            <a:r>
              <a:rPr b="0" i="1" lang="en-US" sz="2400" spc="-1" strike="noStrike">
                <a:solidFill>
                  <a:srgbClr val="ffffff"/>
                </a:solidFill>
                <a:latin typeface="Arial Narrow"/>
              </a:rPr>
              <a:t>2do semestre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990720"/>
            <a:ext cx="8305560" cy="1371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 Narrow"/>
              </a:rPr>
              <a:t>Posibles Solucione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5867280"/>
            <a:ext cx="4647960" cy="825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través de comentarios y sug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4343400"/>
            <a:ext cx="4419720" cy="1557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 asegura el anonimato a través de la generación temporal de encuestas generadas al azar, transparente solo para el C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3886200"/>
            <a:ext cx="464796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 el uso de Semáfo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3063960"/>
            <a:ext cx="4496040" cy="825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sando identificadores para CGI, email, login, IP,hora de vo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utfsm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143000" cy="884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362320" y="1522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 Narrow"/>
              </a:rPr>
              <a:t>SEMINARIO  I          </a:t>
            </a:r>
            <a:r>
              <a:rPr b="0" i="1" lang="en-US" sz="2400" spc="-1" strike="noStrike">
                <a:solidFill>
                  <a:srgbClr val="ffffff"/>
                </a:solidFill>
                <a:latin typeface="Arial Narrow"/>
              </a:rPr>
              <a:t>2do semestre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990720"/>
            <a:ext cx="8305560" cy="1371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 Narrow"/>
              </a:rPr>
              <a:t>Desarrollo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2743200"/>
            <a:ext cx="6172200" cy="45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nificación a través de diagramas de flu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3581280"/>
            <a:ext cx="6172200" cy="45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nso a grupos que realizan encue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419720"/>
            <a:ext cx="6172200" cy="16887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lt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GI de Manejo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GI que envía correo electrónico (LIS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GI de publicación de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33520" y="990720"/>
            <a:ext cx="8305560" cy="144756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Narrow"/>
              </a:rPr>
              <a:t>Bibliografí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3352680"/>
            <a:ext cx="5790960" cy="31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Pagina WEB del Lenguaje PERL:</a:t>
            </a:r>
            <a:br>
              <a:rPr sz="2000"/>
            </a:b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</a:t>
            </a: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://</a:t>
            </a: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ww</a:t>
            </a: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.</a:t>
            </a: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perl</a:t>
            </a: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.</a:t>
            </a: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Verdana"/>
                <a:hlinkClick r:id="rId8"/>
              </a:rPr>
              <a:t>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Manuales de PERL:</a:t>
            </a:r>
            <a:br>
              <a:rPr sz="2000"/>
            </a:b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Verdana"/>
                <a:hlinkClick r:id="rId9"/>
              </a:rPr>
              <a:t>http</a:t>
            </a: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Verdana"/>
                <a:hlinkClick r:id="rId10"/>
              </a:rPr>
              <a:t>://</a:t>
            </a: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Verdana"/>
                <a:hlinkClick r:id="rId11"/>
              </a:rPr>
              <a:t>lyapunov</a:t>
            </a: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.</a:t>
            </a: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Verdana"/>
                <a:hlinkClick r:id="rId13"/>
              </a:rPr>
              <a:t>elo</a:t>
            </a: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Verdana"/>
                <a:hlinkClick r:id="rId14"/>
              </a:rPr>
              <a:t>.</a:t>
            </a: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Verdana"/>
                <a:hlinkClick r:id="rId15"/>
              </a:rPr>
              <a:t>utfsm</a:t>
            </a: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Verdana"/>
                <a:hlinkClick r:id="rId16"/>
              </a:rPr>
              <a:t>.cl/</a:t>
            </a: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Verdana"/>
                <a:hlinkClick r:id="rId17"/>
              </a:rPr>
              <a:t>users</a:t>
            </a: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Verdana"/>
                <a:hlinkClick r:id="rId18"/>
              </a:rPr>
              <a:t>/</a:t>
            </a: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Verdana"/>
                <a:hlinkClick r:id="rId19"/>
              </a:rPr>
              <a:t>skywolf</a:t>
            </a: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Verdana"/>
                <a:hlinkClick r:id="rId20"/>
              </a:rPr>
              <a:t>/</a:t>
            </a: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Verdana"/>
                <a:hlinkClick r:id="rId21"/>
              </a:rPr>
              <a:t>Perl</a:t>
            </a: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Verdana"/>
                <a:hlinkClick r:id="rId22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Libro: “PERL Páginas WEB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Interactivas”-  </a:t>
            </a:r>
            <a:r>
              <a:rPr b="1" i="1" lang="es-ES_tradnl" sz="1600" spc="-1" strike="noStrike">
                <a:solidFill>
                  <a:srgbClr val="ffffff"/>
                </a:solidFill>
                <a:latin typeface="Verdana"/>
              </a:rPr>
              <a:t>Autor: JUAN PALA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4648320"/>
            <a:ext cx="495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es-ES_tradn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3429000"/>
            <a:ext cx="0" cy="312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utfsm" descr=""/>
          <p:cNvPicPr/>
          <p:nvPr/>
        </p:nvPicPr>
        <p:blipFill>
          <a:blip r:embed="rId23"/>
          <a:stretch/>
        </p:blipFill>
        <p:spPr>
          <a:xfrm>
            <a:off x="228600" y="152280"/>
            <a:ext cx="1143000" cy="884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362320" y="1522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 Narrow"/>
              </a:rPr>
              <a:t>SEMINARIO  I          </a:t>
            </a:r>
            <a:r>
              <a:rPr b="0" i="1" lang="en-US" sz="2400" spc="-1" strike="noStrike">
                <a:solidFill>
                  <a:srgbClr val="ffffff"/>
                </a:solidFill>
                <a:latin typeface="Arial Narrow"/>
              </a:rPr>
              <a:t>2do semestre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3T13:52:51Z</dcterms:created>
  <dc:creator>scorrea</dc:creator>
  <dc:description/>
  <dc:language>en-US</dc:language>
  <cp:lastModifiedBy>scorrea</cp:lastModifiedBy>
  <dcterms:modified xsi:type="dcterms:W3CDTF">2000-11-16T19:20:34Z</dcterms:modified>
  <cp:revision>13</cp:revision>
  <dc:subject/>
  <dc:title>Servicio de Encuestas  ON-LINE</dc:title>
</cp:coreProperties>
</file>