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239-D636-4C69-9641-2C424B61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D10-68C8-4F58-AF71-C1BE743D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A1C-3F74-4AE7-BD00-B2F0671D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B88-F68D-41DC-8164-58CF0B6A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A12-0927-4A39-8B50-AB0934F5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8BB-8FC0-42DD-AD7E-F7EF010D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98C-F1E7-40DA-B720-C9CD4F34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E8E-7A34-4C9A-A6B3-345005E3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A6D-66DB-4895-87CF-995D78D9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409-CB29-4619-A3C3-1FF52D17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124-1D9C-4749-9CEC-226A4660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333-21AE-4F3D-87C2-28CB7CFB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904C-B014-48A8-ACB7-B6F06DD68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68560" y="0"/>
            <a:ext cx="7968960" cy="6900840"/>
            <a:chOff x="1168560" y="0"/>
            <a:chExt cx="7968960" cy="6900840"/>
          </a:xfrm>
        </p:grpSpPr>
        <p:pic>
          <p:nvPicPr>
            <p:cNvPr id="42" name="" descr=""/>
            <p:cNvPicPr/>
            <p:nvPr/>
          </p:nvPicPr>
          <p:blipFill>
            <a:blip r:embed="rId1">
              <a:lum bright="70000" contrast="-70000"/>
            </a:blip>
            <a:srcRect l="0" t="0" r="0" b="40023"/>
            <a:stretch/>
          </p:blipFill>
          <p:spPr>
            <a:xfrm>
              <a:off x="1204920" y="0"/>
              <a:ext cx="7932600" cy="69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297" t="317" r="0" b="0"/>
            <a:stretch/>
          </p:blipFill>
          <p:spPr>
            <a:xfrm>
              <a:off x="1168560" y="1371600"/>
              <a:ext cx="2417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219320" y="0"/>
              <a:ext cx="2286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minario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5334120"/>
              <a:ext cx="914400" cy="53316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7920" y="6019920"/>
              <a:ext cx="1828800" cy="53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part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 Electrón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00200" y="594360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9000" y="1294920"/>
            <a:ext cx="5029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Virtual Private Net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(Red PrivadaVirtu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2920" y="525780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Fernando Guzmán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110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111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3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es una VP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tecnología VPN proporciona un pasillo o túnel seguro en la red pública mediante encriptación y encapsul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dos técnicas de tunelización mayormente aceptadas son el estándar IP Security (IPSec) y el Layer 2 Tunneling Protocol (L2TP), que sustituyen  a las anteriormente existentes, conocidas como Point-to-Point Tunneling Protocol (PPTP) y Layer 2 Forwarding (L2F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117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0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es una VP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pocas palabras, la tunelización implica la encapsulación de un datagrama encriptado dentro de ot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371600" y="3429000"/>
            <a:ext cx="6778080" cy="2989800"/>
            <a:chOff x="1371600" y="3429000"/>
            <a:chExt cx="6778080" cy="2989800"/>
          </a:xfrm>
        </p:grpSpPr>
        <p:sp>
          <p:nvSpPr>
            <p:cNvPr id="124" name=""/>
            <p:cNvSpPr/>
            <p:nvPr/>
          </p:nvSpPr>
          <p:spPr>
            <a:xfrm>
              <a:off x="4053600" y="5607360"/>
              <a:ext cx="0" cy="3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26560" y="3512160"/>
              <a:ext cx="1604520" cy="1442880"/>
            </a:xfrm>
            <a:prstGeom prst="cloudCallout">
              <a:avLst>
                <a:gd name="adj1" fmla="val 33583"/>
                <a:gd name="adj2" fmla="val -423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16480" y="3429000"/>
              <a:ext cx="634320" cy="1553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98840" y="3429000"/>
              <a:ext cx="634320" cy="1553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37960" y="3942000"/>
              <a:ext cx="885960" cy="527040"/>
            </a:xfrm>
            <a:prstGeom prst="leftArrow">
              <a:avLst>
                <a:gd name="adj1" fmla="val 50000"/>
                <a:gd name="adj2" fmla="val 420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7" idx="2"/>
              <a:endCxn id="126" idx="4"/>
            </p:cNvCxnSpPr>
            <p:nvPr/>
          </p:nvCxnSpPr>
          <p:spPr>
            <a:xfrm flipH="1">
              <a:off x="3250800" y="4205520"/>
              <a:ext cx="2047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30" name=""/>
            <p:cNvSpPr/>
            <p:nvPr/>
          </p:nvSpPr>
          <p:spPr>
            <a:xfrm>
              <a:off x="1550880" y="3859200"/>
              <a:ext cx="55080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75840" y="3859200"/>
              <a:ext cx="55044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1" idx="1"/>
              <a:endCxn id="127" idx="4"/>
            </p:cNvCxnSpPr>
            <p:nvPr/>
          </p:nvCxnSpPr>
          <p:spPr>
            <a:xfrm flipH="1">
              <a:off x="5933160" y="4205520"/>
              <a:ext cx="74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30" idx="3"/>
              <a:endCxn id="126" idx="2"/>
            </p:cNvCxnSpPr>
            <p:nvPr/>
          </p:nvCxnSpPr>
          <p:spPr>
            <a:xfrm>
              <a:off x="2101680" y="4205520"/>
              <a:ext cx="51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2747520" y="5149440"/>
              <a:ext cx="69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GW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6480" y="5149440"/>
              <a:ext cx="67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GW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6615720" y="5607360"/>
              <a:ext cx="1533960" cy="481680"/>
              <a:chOff x="6615720" y="5607360"/>
              <a:chExt cx="1533960" cy="481680"/>
            </a:xfrm>
          </p:grpSpPr>
          <p:sp>
            <p:nvSpPr>
              <p:cNvPr id="137" name=""/>
              <p:cNvSpPr/>
              <p:nvPr/>
            </p:nvSpPr>
            <p:spPr>
              <a:xfrm>
                <a:off x="6615720" y="5607360"/>
                <a:ext cx="1533960" cy="48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&lt;A&gt;      Dat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99560" y="5607360"/>
                <a:ext cx="0" cy="48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3670200" y="5607360"/>
              <a:ext cx="2176560" cy="481680"/>
              <a:chOff x="3670200" y="5607360"/>
              <a:chExt cx="2176560" cy="481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670200" y="5607360"/>
                <a:ext cx="1656360" cy="4816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GW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4190400" y="5607360"/>
                <a:ext cx="1656360" cy="478080"/>
                <a:chOff x="4190400" y="5607360"/>
                <a:chExt cx="1656360" cy="4780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190400" y="5607360"/>
                  <a:ext cx="1656360" cy="478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&lt;A&gt;     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713120" y="5607360"/>
                  <a:ext cx="0" cy="47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1371600" y="5560200"/>
              <a:ext cx="1490760" cy="528840"/>
              <a:chOff x="1371600" y="5560200"/>
              <a:chExt cx="1490760" cy="528840"/>
            </a:xfrm>
          </p:grpSpPr>
          <p:sp>
            <p:nvSpPr>
              <p:cNvPr id="145" name=""/>
              <p:cNvSpPr/>
              <p:nvPr/>
            </p:nvSpPr>
            <p:spPr>
              <a:xfrm>
                <a:off x="1371600" y="5560200"/>
                <a:ext cx="1490760" cy="52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&lt;A&gt;      Dat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41760" y="5560200"/>
                <a:ext cx="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245120" y="5959800"/>
              <a:ext cx="160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____________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ifrado opc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149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150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2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reve descripción de IP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VPNs se basan en el Protocolo de Internet (IP) combinando tunelización, encriptación, autenticación y técnicas de control de acceso para asegurar el tráfico cursado sobre diversos medios compartidos, esto con el fin de evitar entre otras actividades: spoofing, sniffing, h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156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157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9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reve descripción de IP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ETF (Internet Engineering Task Force) desarrollo el protocolo IPSec (RFCs 2401-2412) para proveer servicio de seguridad con un protocolo de capa 3, es decir en la capa de 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o IPSec esta integrado con IP puede dar seguridad frente a esos ataques a cualquier aplicación que use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163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164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6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reve descripción de IP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tenticación e integridad en los datos: mediante el protocolo AH (Authentication Header) y el protocolo ESP (Encapsulating Security Paylo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fidencialidad: ESP, mediante encrip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blecimiento de comunicación segura entre las partes: mediante el protocolo de intercambio de llaves en Internet 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170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3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ciones para implementar una VP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aración con otras altern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VPN requiere que cada paquete de datos sea procesado cuando entra y sale de la red pública para aumentar la seguridad y optimizar su funcion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uma de servicios aplicados a cada paquete en una VPN es una polít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177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178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0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ciones para implementar una VP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mente las políticas se aplican a un usuario o a grupos de usuarios e incluyen seguridad específica, calidad de servicio (QoS) y características de administr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características de seguridad y autenticación de usuarios son esenciales en cualquier VP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184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7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ciones para implementar una VP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62120" y="2068560"/>
          <a:ext cx="8381880" cy="478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68560"/>
                    <a:ext cx="8381880" cy="4789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193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6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asificación de V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pueden clasificar según tamaño y características de técnicas y de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0 es para empresas pequeñas y provee solo acceso remoto a usuarios. Tuneliza con PP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1 son óptimo para las PYMES, considera conexión con sucursales. Utiliza IPSec y encriptación con D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200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201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3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asificación de V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2 Para organizaciones de mayor tamaño, con cerca de 500 usuarios remotos y 10 sitios conectados. Encriptación con 3DES y traducción de direcciones (NAT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3 Para grandes compañías, permite realizar transacciones. Los usuarios remotos pueden conectarse con xDSL o cable módem. Utiliza IPsec y considera correr aplicaciones críticas entre si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52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53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rnet, costos y Acceso Remoto Se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es una VP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reve descripción de IP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ideraciones para implementar una V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exist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207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0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asificación de V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4 Son las VPN más seguras, flexibles y escalables. Las utilizan multinacionales con 10.000 usuarios remotos y miles de sucursales. Utiliza PKI y necesita proveedores que ofrezcan QoS en aplicaciones tiempo real (Voz sobre IP y Video Conferencia sobre 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214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215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7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ones exist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Crypt de Insol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-Secure de Data Fe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221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222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4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Crypt de Insol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cripta con 3DES el paquete completo, incluyendo el header. Luego lo encapsula en otro paquete, ocultando con esto información como el tipo de aplicación y la topología de las redes involucr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228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229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-Secure de Data Fel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Usa una extensa variedad de algoritmos de selección de usuarios, incluyendo 3DES, Blowfish, RS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Además, F-Secure comprime datos y autentifica otros servidores encrip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Cualquier PC con los requerimientos mínimos puede correr el software de F-Secure VP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235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236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8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-Secure de Data Fel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La red VPN es dinámicamente ampliable de modo que nuevas LANs se puede añadir a VPN existente sin demasiada config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Se pueden usar conexiones a Internet de bajo costo para formar la VPN. Tradicionalmente, las redes privadas virtuales seguras han estado construyéndose usando líneas arrendadas muy ca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242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5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-Secure de Data Fel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Automáticamente se encriptan y protegen contra alteraciones todas las conexiones F-Secure VP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F-Secure VPN se integra con cualquiera de las firewalls ex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F-Secure VPN soporta conexiones Extranet segur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Una red simple entre 2 puntos implica US$5.000 más los equipos dedic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249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250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2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masificación de las comunicaciones y el valor de compartir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vel nacional, la necesidad de que las PYMES se acerquen a la economía digital y los costos de conex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 real: Petroquim S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256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257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9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 real: Petroquim S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mpresa con oficinas en Santiago y planta de procesamiento en Talcahu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ata con Telefónica una línea dedicada entre ambos sitios a 256 Kbps y dos equipos (routers) a $890.079 + IVA mensu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base a lo mencionado sobre F-Secure, suponiendo equipos dedicados de US$ 4.000 el costo total sería cercano a US$ 13.000, es decir menos del 60% del gasto 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263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264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6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NewRoman"/>
              </a:rPr>
              <a:t>http://www.internetwk.com/VPN/Xediapaper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NewRoman"/>
              </a:rPr>
              <a:t>http://www.internetwk.com/VP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NewRoman"/>
              </a:rPr>
              <a:t>http://www.internetwk.com/columns/pers032299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NewRoman"/>
              </a:rPr>
              <a:t>http://img.cmpnet.com/internetwk/VPN/graphics/IPsec.pd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NewRoman"/>
              </a:rPr>
              <a:t>http://img.cmpnet.com/internetwk/VPN/graphics/vpnet.pd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NewRoman"/>
              </a:rPr>
              <a:t>http://img.cmpnet.com/internetwk/VPN/graphics/Check_PointVPNwp.pd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NewRoman"/>
              </a:rPr>
              <a:t>Hackers, escrito por S. Maclure, J. Scambray y G. Kurtz. McGraw-Hill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59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2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, costos y Acceso Rem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explosivo crecimiento de Internet y la forma de hacer nego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necesidad de las redes y de estar conec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lternativa que representan las VPN para disminuir costos, aumentar la comunicación y la fuerza de trabajo mó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66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67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, costos y Acceso Rem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62120" y="2146320"/>
            <a:ext cx="76960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74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75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, costos y Acceso Rem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mercado de la seguridad se proyectó un crecimiento en ventas desde US$ 1.100 millones en 1995  hasta US$ 16.600 millones para este año. En particular el mercado de las VPNs proyecta altas tasas de crecimien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81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4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o Remoto Seg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onexiones vía módem telefónico pueden transferir datos seguros vía un ISP a una red corporativ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datos se encriptan en el cliente antes de que sean transmitidos y se desencriptan en la puerta del firew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software proporcionado, habilita a los usuarios remotos a que pueden conectarse a la red corporativa como si estuvieran detrás del firew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88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89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o Remoto Seg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62120" y="1573200"/>
            <a:ext cx="83818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96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97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es una VP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Una red donde todos los usuarios parecen estar en el mismo segmento de LAN, pero en realidad están a varias redes (generalmente públicas) de dista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redes seguras, privadas y virtuales debe completar tres tar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NewRoman"/>
              </a:rPr>
              <a:t>Primero, deben poder pasar paquetes IP a través de un túnel en la red pública, de manera que dos segmentos de LAN remotos no parezcan estar separados por una red públ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228600" y="-380880"/>
            <a:ext cx="9366120" cy="7315200"/>
            <a:chOff x="-228600" y="-380880"/>
            <a:chExt cx="9366120" cy="7315200"/>
          </a:xfrm>
        </p:grpSpPr>
        <p:grpSp>
          <p:nvGrpSpPr>
            <p:cNvPr id="103" name=""/>
            <p:cNvGrpSpPr/>
            <p:nvPr/>
          </p:nvGrpSpPr>
          <p:grpSpPr>
            <a:xfrm>
              <a:off x="-228600" y="-380880"/>
              <a:ext cx="991080" cy="7315200"/>
              <a:chOff x="-228600" y="-380880"/>
              <a:chExt cx="991080" cy="73152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"/>
              <a:srcRect l="49579" t="317" r="0" b="0"/>
              <a:stretch/>
            </p:blipFill>
            <p:spPr>
              <a:xfrm>
                <a:off x="-101160" y="-380880"/>
                <a:ext cx="863640" cy="73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-228600" y="4876920"/>
                <a:ext cx="625680" cy="1523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6" name="" descr=""/>
            <p:cNvPicPr/>
            <p:nvPr/>
          </p:nvPicPr>
          <p:blipFill>
            <a:blip r:embed="rId2">
              <a:lum bright="70000" contrast="-70000"/>
            </a:blip>
            <a:srcRect l="0" t="0" r="0" b="40023"/>
            <a:stretch/>
          </p:blipFill>
          <p:spPr>
            <a:xfrm>
              <a:off x="762120" y="0"/>
              <a:ext cx="8375400" cy="690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es una VP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NewRoman"/>
              </a:rPr>
              <a:t>redes seguras, privadas y virtuales debe completar tres tar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NewRoman"/>
              </a:rPr>
              <a:t>Segundo, la solución debe agregar encriptación, tal que el tráfico que cruce por la red pública no pueda ser espiado, interceptado, leído o modific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NewRoman"/>
              </a:rPr>
              <a:t>Finalmente, la solución tiene que ser capaz de autenticar positivamente cualquier extremo del enlace de comunicación de manera que un adversario no pueda acceder a los recursos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2:44:56Z</dcterms:created>
  <dc:creator>Guzmán</dc:creator>
  <dc:description/>
  <dc:language>en-US</dc:language>
  <cp:lastModifiedBy>Guzmán</cp:lastModifiedBy>
  <dcterms:modified xsi:type="dcterms:W3CDTF">2000-11-16T13:33:44Z</dcterms:modified>
  <cp:revision>8</cp:revision>
  <dc:subject/>
  <dc:title>VPN</dc:title>
</cp:coreProperties>
</file>