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D0168-B2A4-4CE5-B8F6-885CA1013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EB556-A1F4-4E8D-AEF3-794E6AEA4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93391-27E5-41C2-BE7D-0A9DD0E66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98F52-8BE4-40CB-85DB-68818EE32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24E76-6772-442A-9609-8F84C7E65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CC12A-5DE1-4319-8599-63B7C39B4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D0916-40D1-4968-B55F-75267DCD7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79C2F-AFCD-45D5-B1C6-4265124E9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34984-A960-4E2A-A0CC-8EEE2B76E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7F99-BD30-425E-893C-E32AB046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0040-C571-48ED-BE70-4E44726A0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2D1C-205B-4230-A882-526F9AE38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005F-A2C8-4B6C-A918-66E94CDAC483}"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1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roducción a</a:t>
            </a:r>
            <a:br>
              <a:rPr sz="6600"/>
            </a:br>
            <a:r>
              <a:rPr b="1" lang="es-CL" sz="7200" spc="-1" strike="noStrike">
                <a:solidFill>
                  <a:srgbClr val="000000"/>
                </a:solidFill>
                <a:latin typeface="Times New Roman"/>
              </a:rPr>
              <a:t>XML</a:t>
            </a:r>
            <a:endParaRPr b="0" lang="en-US" sz="7200" spc="-1" strike="noStrike">
              <a:solidFill>
                <a:srgbClr val="000000"/>
              </a:solidFill>
              <a:latin typeface="Times New Roman"/>
            </a:endParaRPr>
          </a:p>
        </p:txBody>
      </p:sp>
      <p:sp>
        <p:nvSpPr>
          <p:cNvPr id="42" name=""/>
          <p:cNvSpPr/>
          <p:nvPr/>
        </p:nvSpPr>
        <p:spPr>
          <a:xfrm>
            <a:off x="685800" y="52578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Joel Candia C.</a:t>
            </a:r>
            <a:br>
              <a:rPr sz="2400"/>
            </a:br>
            <a:r>
              <a:rPr b="0" lang="es-CL" sz="2400" spc="-1" strike="noStrike">
                <a:solidFill>
                  <a:srgbClr val="000000"/>
                </a:solidFill>
                <a:latin typeface="Times New Roman"/>
              </a:rPr>
              <a:t>9821019-9</a:t>
            </a:r>
            <a:endParaRPr b="0" lang="en-US" sz="2400" spc="-1" strike="noStrike">
              <a:solidFill>
                <a:srgbClr val="000000"/>
              </a:solidFill>
              <a:latin typeface="Times New Roman"/>
            </a:endParaRPr>
          </a:p>
        </p:txBody>
      </p:sp>
      <p:sp>
        <p:nvSpPr>
          <p:cNvPr id="43"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Universidad Técnica Federico Santa María</a:t>
            </a:r>
            <a:br>
              <a:rPr sz="1600"/>
            </a:br>
            <a:r>
              <a:rPr b="0" lang="es-CL" sz="1600" spc="-1" strike="noStrike">
                <a:solidFill>
                  <a:srgbClr val="000000"/>
                </a:solidFill>
                <a:latin typeface="Times New Roman"/>
              </a:rPr>
              <a:t>Departamento de Electrónica</a:t>
            </a:r>
            <a:br>
              <a:rPr sz="1600"/>
            </a:br>
            <a:r>
              <a:rPr b="0" lang="es-CL" sz="1600" spc="-1" strike="noStrike">
                <a:solidFill>
                  <a:srgbClr val="000000"/>
                </a:solidFill>
                <a:latin typeface="Times New Roman"/>
              </a:rPr>
              <a:t>ELO-330 Programación de Sistem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puede tener tres posibles rol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contenedor de información</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efinir el contenido de los mensaje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describir el contenido de los mensajes</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scargar trabajo en el Servid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Por medio del Modelo de Objetos de Documentos (DOM), podemos evitarle trabajo al servidor, espera al cliente y no saturar tanto la r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sonalización de la WE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Gracias al XSL/XSLT, podemos transformar y dar el formato que queramos a un mismo documento XM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dependencia del dispositivo de acceso a la informació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disponemos de un servidor WAP y otro WEB, podemos saber en función del protocolo, desde donde se nos pide la información y en función del dispositivo, mostrarle la misma información de una forma u otra.</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la información / conocimiento</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etiquetamos la información y a cada usuario se le proporciona una serie de etiquetas de interés, se podría resaltar la información que le es interesante, frente a la que no es rele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Para qué sirve XML?</a:t>
            </a:r>
            <a:br>
              <a:rPr sz="4400"/>
            </a:br>
            <a:r>
              <a:rPr b="1" lang="es-CL" sz="2800" spc="-1" strike="noStrike">
                <a:solidFill>
                  <a:srgbClr val="000000"/>
                </a:solidFill>
                <a:latin typeface="Times New Roman"/>
              </a:rPr>
              <a:t>(Aplicaciones basadas en XML)</a:t>
            </a:r>
            <a:endParaRPr b="0" lang="en-US" sz="28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Buscador WEB</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disponemos de un sitio donde toda la información se encuentre etiquetada en documentos XML, las búsquedas serían mucho más efectivas, ya que se conjuga la potencia de la búsqueda indexada junto la búsqueda semántica.</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Intercambio de información</a:t>
            </a:r>
            <a:endParaRPr b="0" lang="en-US" sz="24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i contratamos a una empresa un servicio de noticias, y nos facilitan la estructura de los datos que vamos a recibir (DTD/Schema), sabremos en todo momento que tipos de documentos XML estamos recibiendo, y podremos tratarlos de la forma que deseemos.</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es un metalenguaje, que nos permite definir la estructura física y lógica que le damos a la información. </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ísicamente esta formado por texto, del cual parte es la información propiamente tal y el resto son marcas que separan y mantienen ordenada la informació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ógicamente, esta estructurado en forma de árbol, con una raíz a partir de la cual se organiza la información.</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 las herramientas que podemos utilizar para trabajar con XML podemos nombrar los Browsers o Navegadores, los editores de XML, los parsers y los editores de XSL.</a:t>
            </a:r>
            <a:endParaRPr b="0" lang="en-US" sz="2400" spc="-1" strike="noStrike">
              <a:solidFill>
                <a:srgbClr val="000000"/>
              </a:solidFill>
              <a:latin typeface="Times New Roman"/>
            </a:endParaRPr>
          </a:p>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tiene un amplio campo de aplic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5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Fi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Que es XML?</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esarrollo de XML comenzó en 1996.</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de febrero de 1998 es una recomendación del W3C.</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Extensible Markup Language) es un subconjunto del SGML (Standard Generalized Markup Langu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XML es un metalenguaje con el que se pueden definir otros lenguajes de etiquet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documentos XML tienen formato de tex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ísicamente, un documento XML puede consistir en una o mas unidades de almacenamiento, llamadas entidad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ntidades pueden contener tanto datos analizados(parsed) como sin analizar(unpars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ntidades tienen contenido y están identificadas por un nomb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ada documento XML contiene una entidad, llamada entidad documento, que sirve como punto de partida para el procesador XML y que puede contener el documento comple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ógicamente, el documento está compuesto de declaraciones, elementos, comentarios, referencias a caracteres e instrucciones de procesamiento, todos los cuales están indicados por una marca explícit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documento XML contiene uno o más elementos, cuyos limites están delimitados por etiquetas de comienzo y de final o, en el caso de elementos vacíos, por una etiqueta de elemento vacío. Cada elemento tiene un tipo, identificado por un nombre, denominado identificador genérico, y puede tener un conjunto de especificaciones de atribu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bien formado es aquel documento que cumple con la especificación de XML 1.0, es decir que sea sintácticamente correcto.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XML bien formado debe seguir algunas reglas básicas:</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 contener uno o más elementos.</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bería comenzar con una declaración XML.</a:t>
            </a: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puede haber un elemento raí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XML bien formado debe seguir algunas reglas básicas:</a:t>
            </a:r>
            <a:endParaRPr b="0" lang="en-US" sz="2400" spc="-1" strike="noStrike">
              <a:solidFill>
                <a:srgbClr val="000000"/>
              </a:solidFill>
              <a:latin typeface="Times New Roman"/>
            </a:endParaRPr>
          </a:p>
          <a:p>
            <a:pPr lvl="2" marL="1108440" indent="-2214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mple todas las restricciones que proporciona su especificación a través del DTD. Si no se utiliza DTD, el documento debe comenzar con una SDD.</a:t>
            </a:r>
            <a:endParaRPr b="0" lang="en-US" sz="2400" spc="-1" strike="noStrike">
              <a:solidFill>
                <a:srgbClr val="000000"/>
              </a:solidFill>
              <a:latin typeface="Times New Roman"/>
            </a:endParaRPr>
          </a:p>
          <a:p>
            <a:pPr lvl="2" marL="1108440" indent="-2214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una de sus partes analizadas esta bien formada.</a:t>
            </a:r>
            <a:endParaRPr b="0" lang="en-US" sz="2400" spc="-1" strike="noStrike">
              <a:solidFill>
                <a:srgbClr val="000000"/>
              </a:solidFill>
              <a:latin typeface="Times New Roman"/>
            </a:endParaRPr>
          </a:p>
          <a:p>
            <a:pPr lvl="2" marL="1108440" indent="-2214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oda etiqueta abierta hay que cerrarla. Para cada etiqueta de inicio debe existir una etiqueta de termino. Las únicas etiquetas que van solas son las etiquetas vací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documento XML bien formado debe seguir algunas reglas básicas:</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sensible a mayúsculas y minúsculas, las etiquetas de inicio y de termino se tienen que escribir igual.</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pueden intercalar etiquetas.</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etiqueta puede tener atributos cerrados entre comillas.</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nombre de las etiquetas empiezan con una letra, o con uno o más signos de puntuación.</a:t>
            </a:r>
            <a:endParaRPr b="0" lang="en-US" sz="2400" spc="-1" strike="noStrike">
              <a:solidFill>
                <a:srgbClr val="000000"/>
              </a:solidFill>
              <a:latin typeface="Times New Roman"/>
            </a:endParaRPr>
          </a:p>
          <a:p>
            <a:pPr lvl="2" marL="1131480" indent="-226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entarios van encer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esta estructurado XML?</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ejemplo de un documento XML bien formado:</a:t>
            </a:r>
            <a:endParaRPr b="0" lang="en-US" sz="24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lt;?xml version="1.0" standalone="yes"?&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lt;library&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lt;book call_no="PZ3.S8195Gr6"&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cover href="grapes.gif" alt="Grapes of Wrath"/&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title&gt;The Grapes of Wrath&lt;/title&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autho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last_name&gt;Steinbeck&lt;/last_name&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first_name&gt;John&lt;/first_name&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autho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publisher&gt;Viking Press&lt;/publishe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	</a:t>
            </a:r>
            <a:r>
              <a:rPr b="1" lang="es-CL" sz="1800" spc="-1" strike="noStrike">
                <a:solidFill>
                  <a:srgbClr val="000000"/>
                </a:solidFill>
                <a:latin typeface="Courier New"/>
              </a:rPr>
              <a:t>&lt;pub_year&gt;1939&lt;/pub_year&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	</a:t>
            </a:r>
            <a:r>
              <a:rPr b="1" lang="es-CL" sz="1800" spc="-1" strike="noStrike">
                <a:solidFill>
                  <a:srgbClr val="000000"/>
                </a:solidFill>
                <a:latin typeface="Courier New"/>
              </a:rPr>
              <a:t>&lt;/book&gt;</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urier New"/>
              </a:rPr>
              <a:t>&lt;/library&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Times New Roman"/>
              </a:rPr>
              <a:t>¿Cómo se usa XML?</a:t>
            </a:r>
            <a:br>
              <a:rPr sz="4400"/>
            </a:br>
            <a:r>
              <a:rPr b="1" lang="es-CL" sz="2800" spc="-1" strike="noStrike">
                <a:solidFill>
                  <a:srgbClr val="000000"/>
                </a:solidFill>
                <a:latin typeface="Times New Roman"/>
              </a:rPr>
              <a:t>(</a:t>
            </a:r>
            <a:r>
              <a:rPr b="1" lang="es-CL" sz="2800" spc="-1" strike="noStrike">
                <a:solidFill>
                  <a:srgbClr val="000000"/>
                </a:solidFill>
                <a:latin typeface="Times New Roman"/>
              </a:rPr>
              <a:t>Como trabajar con XML)</a:t>
            </a:r>
            <a:endParaRPr b="0" lang="en-US" sz="2800" spc="-1" strike="noStrike">
              <a:solidFill>
                <a:srgbClr val="000000"/>
              </a:solidFill>
              <a:latin typeface="Times New Roman"/>
            </a:endParaRPr>
          </a:p>
        </p:txBody>
      </p:sp>
      <p:sp>
        <p:nvSpPr>
          <p:cNvPr id="59" name="PlaceHolder 2"/>
          <p:cNvSpPr>
            <a:spLocks noGrp="1"/>
          </p:cNvSpPr>
          <p:nvPr>
            <p:ph/>
          </p:nvPr>
        </p:nvSpPr>
        <p:spPr>
          <a:xfrm>
            <a:off x="2249280" y="1981080"/>
            <a:ext cx="464796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avegadores (Brow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ditores X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Parsers X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ditores XS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23:35:47Z</dcterms:created>
  <dc:creator>Candia Contreras</dc:creator>
  <dc:description/>
  <dc:language>en-US</dc:language>
  <cp:lastModifiedBy>Candia Contreras</cp:lastModifiedBy>
  <dcterms:modified xsi:type="dcterms:W3CDTF">2002-11-15T16:31:03Z</dcterms:modified>
  <cp:revision>4</cp:revision>
  <dc:subject/>
  <dc:title>Introducción a XML</dc:title>
</cp:coreProperties>
</file>