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5D1-6FBC-4E6E-A810-67846116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2DF-C72F-4498-B742-2791DDB4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A94-DCF7-4B52-8FF0-7CE123C7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813-9B60-4AB2-B540-71DFFC0D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645D-665F-4D8C-A40C-AEBE8D73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B2FE-E6A7-4090-A17A-CCD99E65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F701-ADD6-42AC-AA29-91D1988D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F6EC-AF2F-4C04-8FE2-BBECAE47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F5AD-58A1-4AAB-8F65-50958CE8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C8DB-EEEF-47AA-B9F3-60C5A8F8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7ED3-FD73-4FC7-B222-E92EB3F6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B32-B567-4345-935C-A558543D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A0B6-3DEF-47D4-91FE-261010E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2EA-E125-428A-93DB-6B4F2CB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4B2E-F882-4B82-BE48-0562B4E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AA68-5C2E-4531-BE2C-DBDE7CCA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7BB4-BCAB-4999-9698-CF4B3A9D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4A7-3AEE-4367-BB9E-A11F988E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5FD-7FB9-4CD1-8F7C-9BF2A522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B83-4DF9-4B96-ACC5-7D28EA09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C59-E018-4679-9F1B-A9959273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E3A-22F3-4C00-AFAF-4E6E770E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ECF-C7A8-4EB2-8182-A339650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613-8CB2-490B-83CE-C66735F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3FB5-9CD6-4636-A49B-338140EC899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06B7-D6D0-4ECD-83D0-CBDDC6DD83D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SOURCES/region.smi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SOURCES/overlay_zindex.smil" TargetMode="Externa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SOURCES/fit_fill.smil" TargetMode="External"/><Relationship Id="rId2" Type="http://schemas.openxmlformats.org/officeDocument/2006/relationships/hyperlink" Target="file:///SOURCES/fit_fill.smil" TargetMode="External"/><Relationship Id="rId3" Type="http://schemas.openxmlformats.org/officeDocument/2006/relationships/hyperlink" Target="file:///SOURCES/fit_fill.smil" TargetMode="External"/><Relationship Id="rId4" Type="http://schemas.openxmlformats.org/officeDocument/2006/relationships/hyperlink" Target="file:///SOURCES/fit_fill.smil" TargetMode="External"/><Relationship Id="rId5" Type="http://schemas.openxmlformats.org/officeDocument/2006/relationships/hyperlink" Target="file:///SOURCES/fit_fill.smil" TargetMode="External"/><Relationship Id="rId6" Type="http://schemas.openxmlformats.org/officeDocument/2006/relationships/hyperlink" Target="file:///SOURCES/fit_fill.smil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SM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nchronized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ltimedia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tegration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núnciese SM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entrada &lt;img&g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676520"/>
            <a:ext cx="723888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usa la entrada &lt;img&gt;, para insertar una figura. Esta apunta a la entrada &lt;reg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”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75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alt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4120"/>
            <a:ext cx="1143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1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362320"/>
            <a:ext cx="6782040" cy="441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osicionamiento Relativ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02360" y="1905120"/>
            <a:ext cx="70380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mbién se pueden especificar posiciones relativas!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%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40%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alt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438280"/>
            <a:ext cx="701028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do dos regiones se junt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mos visto como poner elementos en la ventan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e pasa cuando estas se traslap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Z -INDEX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n mayor z-index, se muestra adelante. Si tienen igual z-index, se muestran en orden una sobre ot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Z-INDEX (ejemplo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984320"/>
            <a:ext cx="7696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”black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region_1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z-index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2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region_2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25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25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z-index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par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texto1.gif"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 region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region_1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/&gt;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texto2.gif"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 region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region_2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par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981080"/>
            <a:ext cx="7010640" cy="449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05520"/>
            <a:ext cx="144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1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mágenes pero también..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81080" y="2133720"/>
          <a:ext cx="604368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60436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o adaptar los contenidos al áre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ia fantástico si el área fuese siempre del mismo porte que los contenid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ómo adaptarl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ATRIBUTO fit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mplemente en &lt;region&gt;, añadir fit=“(fill)|(meet)|(slice)|(scroll)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09680"/>
            <a:ext cx="1219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1"/>
              </a:rPr>
              <a:t>Ejemplo 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2"/>
              </a:rPr>
              <a:t>f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048120"/>
            <a:ext cx="1219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3"/>
              </a:rPr>
              <a:t> 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4"/>
              </a:rPr>
              <a:t>m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886200"/>
            <a:ext cx="1219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5"/>
              </a:rPr>
              <a:t> 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6"/>
              </a:rPr>
              <a:t>sl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724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 scr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Sincron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MIL puede sincronizar eventos, se pue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gregar parámetros de tiemp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 muchos contenidos uno tras otr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 muchos contenidos en parale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cuarta dimensión “TIEMPO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7400" y="4114800"/>
          <a:ext cx="553896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114800"/>
                    <a:ext cx="55389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981080" y="2133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remos hacer aparecer “rodrigo.gif” durante 6 segu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odrigo.gif” durante 6[s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1905120"/>
            <a:ext cx="7010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gregando el parámetro dur, e igualandolo a “6s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75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6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2438280"/>
            <a:ext cx="68580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0292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morar un conten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0" y="4191120"/>
          <a:ext cx="54482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91120"/>
                    <a:ext cx="54482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33720" y="2057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remos esperar 2 segundos, entonces mostrar “rodrigo.gif” y termi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¿Que se puede hacer con SMIL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ner elementos multimedia donde uno quiera en la pantall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ncronizar dichos element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plegar los elementos según los usuarios finales (bit rate, idioma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l parámetro “begin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105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2960" y="1752480"/>
            <a:ext cx="70380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añade begin="2s" en la sección &lt;img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75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6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egi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209680"/>
            <a:ext cx="708660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Secuenci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cer que “rodrigo.gif”, aparezca por 6 segund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erar 1 segu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 “rodrigo2.gif”, aparezca por 5 segun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828800" y="4786200"/>
          <a:ext cx="708660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786200"/>
                    <a:ext cx="70866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entrada &lt;seq&g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9810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entrada &lt;seq&gt; define una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cuencia.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s hijos se ejecutan uno tras o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94360" y="2743200"/>
            <a:ext cx="73425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eq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6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2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 2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4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egi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1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eq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743200"/>
            <a:ext cx="716256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ntenidos en paralel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90920" y="4114800"/>
          <a:ext cx="510516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114800"/>
                    <a:ext cx="51051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752480" y="21337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se pueden mostrar contenidos en paralelo, como se muestra a continu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entrada &lt;par&g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044800" y="2209680"/>
            <a:ext cx="62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entrada &lt;par&gt; hace que sus hijos se ejecuten en paral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5520" y="3048120"/>
            <a:ext cx="5819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pa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6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2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 2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5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pa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895480"/>
            <a:ext cx="6172200" cy="297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105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ff66"/>
                </a:solidFill>
                <a:latin typeface="Tahoma"/>
              </a:rPr>
              <a:t>¡¡El</a:t>
            </a:r>
            <a:r>
              <a:rPr b="0" lang="es-ES_tradnl" sz="6000" spc="-1" strike="noStrike">
                <a:solidFill>
                  <a:srgbClr val="ffffff"/>
                </a:solidFill>
                <a:latin typeface="Tahoma"/>
              </a:rPr>
              <a:t> desafío esta abierto!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www.rea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Cómo escribir en SM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necesita un editor de text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 se conoce la sintaxis de HTML,  se conoce la sintaxis de SMIL, pero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MIL es sensible a las mayúscula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entradas deben ser termin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rimer programa SM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057400"/>
            <a:ext cx="723888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meta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name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copyright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conten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nombr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00ff"/>
                </a:solidFill>
                <a:latin typeface="Courier New"/>
              </a:rPr>
              <a:t>&lt;!-- entradas de layout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ff"/>
                </a:solidFill>
                <a:latin typeface="Courier New"/>
              </a:rPr>
              <a:t>&lt;!-- entradas de sincronización y contenido multimedia 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6095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quí vemos la semejanza con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Detalle del códig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752480"/>
            <a:ext cx="716256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código debe empezar con &lt;smil&gt; y terminar con&lt;/smil&gt;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gramas SMIL tienen dos partes: head y body. Los cuales deben tener a &lt;smil&gt; como pad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209680"/>
            <a:ext cx="685800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3886200"/>
            <a:ext cx="693396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Se puede terminar con “/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30600" y="2041560"/>
            <a:ext cx="6885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as entradas como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eta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ueden terminar co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“/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meta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name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copyright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conten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nombr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quí se verán algunas entradas com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veces escritas &lt;entrada&gt; ... &lt;/entrada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veces escritas &lt;entrada /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438280"/>
            <a:ext cx="693396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Sección &lt;layout&g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981080"/>
            <a:ext cx="75438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odo lo concerniente a la forma, incluida la ventana, es guardado entre las entradas  &lt;layout&gt; y &lt;/layout&gt; dentro del head, como se muestra a contin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00ff"/>
                </a:solidFill>
                <a:latin typeface="Courier New"/>
              </a:rPr>
              <a:t>&lt;!-- layout tags 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352680"/>
            <a:ext cx="716256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La ventan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81080"/>
            <a:ext cx="75438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uede setear el alto y el ancho de la ventana, donde las presentaciones serán vistas. El siguiente ejemplo, crea una ventana con 300x200 pixeles de dimens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048120"/>
            <a:ext cx="723888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reg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981080"/>
            <a:ext cx="7010280" cy="60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 mostrar las regiones, mejor un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mos a insertar el icono “rodrigo.gif” a 75 pixeles del borde izquierdo y a 50 pixeles del borde super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saremos la entrada &lt;region&gt;, para posicionar nuestro icon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75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037040"/>
            <a:ext cx="6402240" cy="251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02:40:28Z</dcterms:created>
  <dc:creator>Rodrigo P‚rez</dc:creator>
  <dc:description/>
  <dc:language>en-US</dc:language>
  <cp:lastModifiedBy>rapk</cp:lastModifiedBy>
  <dcterms:modified xsi:type="dcterms:W3CDTF">2001-11-16T22:07:35Z</dcterms:modified>
  <cp:revision>16</cp:revision>
  <dc:subject/>
  <dc:title>Seguridad en Redes</dc:title>
</cp:coreProperties>
</file>