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416F-51CC-44A9-BAAC-B09B2E28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83A-2966-4541-B057-17262ED2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AF0-1731-4E6C-A92D-2DA07B3B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2F3-9071-4010-A2B5-852B8B5D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E70-2D75-4552-BC8A-3CA5FF98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9FA0-07B4-4225-A66E-7D90B4D9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24B-E560-4B24-B5EC-0F894659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4B36-2173-4609-BF68-83AEE075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D29-D2DD-43BF-ADCF-6D444C7A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6059-1E53-4D54-9DF7-65C40A7D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1156-6C48-4F50-9BBA-FC3973C1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D7F-284A-4313-B314-87D9D09E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0A36-8D06-46A6-9831-7D7DFA7BE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54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yecto Personal</a:t>
            </a:r>
            <a:br>
              <a:rPr sz="60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“Inscripción de proyectos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Joel Candia C.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9821019-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Universidad Técnica Federico Santa María</a:t>
            </a:r>
            <a:br>
              <a:rPr sz="1600"/>
            </a:b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partamento de Electrónica</a:t>
            </a:r>
            <a:br>
              <a:rPr sz="1600"/>
            </a:b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O-329 Diseño y Programación Orientados a Obje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desea ofrecer el servicio de inscripción de los Proyectos Personales de algún ramo, a través de una máquina y la publicación de los mismos por medio de una página we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8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a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iagrama" descr=""/>
          <p:cNvPicPr/>
          <p:nvPr/>
        </p:nvPicPr>
        <p:blipFill>
          <a:blip r:embed="rId2"/>
          <a:stretch/>
        </p:blipFill>
        <p:spPr>
          <a:xfrm>
            <a:off x="455760" y="1262160"/>
            <a:ext cx="82296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3:03:53Z</dcterms:created>
  <dc:creator>jcand</dc:creator>
  <dc:description/>
  <dc:language>en-US</dc:language>
  <cp:lastModifiedBy>jcand</cp:lastModifiedBy>
  <dcterms:modified xsi:type="dcterms:W3CDTF">2002-11-19T13:13:40Z</dcterms:modified>
  <cp:revision>1</cp:revision>
  <dc:subject/>
  <dc:title>Proyecto Personal “Inscripción de proyectos”</dc:title>
</cp:coreProperties>
</file>