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08A-112F-4B9E-938E-0A05F40B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23A-8830-47FD-96DC-86F74605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EAA-7B84-4402-B519-1C482A54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5EA-73C0-4CDE-AEF9-594C3E8D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4A12-0E9D-4ABE-95DA-8B1FF979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D3F8-4D69-4040-A78A-1180B511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CB96-15BA-456B-9D65-6A3F125D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D4C7-E087-4151-90B1-EC2C185E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F84F-2F2D-4CD7-8F52-7AB74A33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AEC9-A280-4F99-B9FD-0A5E307D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97A7-FACF-4BE2-857F-F2BBE649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50E2-8C97-49E5-813E-83ABC075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155E-39C5-4B7F-823F-7C2210BF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4010-05EA-4AE3-AB40-0F30A83E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FFF3-8A69-4C85-AC12-78BC3B6A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93CF-D8C9-4B47-84F0-0A1619EA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093F-5FB5-4271-9BDE-94CD5D11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600-7660-445F-ABC6-A86864D0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D46-7219-45E9-B8EE-B2499867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90D-D580-4F6B-9E34-408A8605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364-B23E-4B35-8F7B-5D591D6B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5AF-4606-43A2-83E7-30C59D1D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979B-E34D-45C7-8D76-BDFF7256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C2A9-BFE2-44D7-A3BA-E87978C4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5CB1-663B-4DDF-8CFF-910C53C1C8D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BB8D-7584-4DFF-B76A-C686DD84E19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66"/>
                </a:solidFill>
                <a:latin typeface="Arial Black"/>
              </a:rPr>
              <a:t>Administrador de Atención </a:t>
            </a:r>
            <a:br>
              <a:rPr sz="4000"/>
            </a:br>
            <a:r>
              <a:rPr b="1" lang="es-ES_tradnl" sz="4000" spc="-1" strike="noStrike">
                <a:solidFill>
                  <a:srgbClr val="003366"/>
                </a:solidFill>
                <a:latin typeface="Arial Black"/>
              </a:rPr>
              <a:t>Médico Domiciliaria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66"/>
                </a:solidFill>
                <a:latin typeface="Arial"/>
              </a:rPr>
              <a:t>Proyecto Diseño y Programación Orientada a Objet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54100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Daniel Arancibia Carocca César León Soledisp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sider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97180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sider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nteresa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Actualmente existen 2 empresas interesadas en la evolución de este proyecto de software, para los siguientes f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36576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Búsqueda de autos robad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49568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Trackeo” de cami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most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297180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Se necesita almacenar, registrar, indexar y gestionar los datos de los pacientes de un servicio de atención particular médico domiciliaria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Historia Prev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514600"/>
            <a:ext cx="8001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stos datos, tanto personales como clínicos, permiten eliminar o minimizar la cantidad de documentos reales (papeles), optimizando la atención y administración del servicio. Además, permite dar portabilidad efectiva a la documentación de los pacient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Proble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Solu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4191120"/>
            <a:ext cx="8001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a solución se basa en la implementación de una interfaz gráfica personalizada para el manejo de una base de datos de los pacient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657600"/>
            <a:ext cx="800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a implementación permitirá la inserción, búsqueda y modificación de los datos personales y clínicos de los pacientes. Además de la visualización e impresión de informes personalizados a partir de los datos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334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a base de datos a utilizar y la interfaz de conexión con Java son elementos en discusió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Procedimi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66819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asos de us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(1) PRIMER CAS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Nombre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Actualizar información médica de un pac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Actor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   Usuar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Descripción</a:t>
            </a: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El 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usuario actualiza la información correspondiente 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    a un paciente determinado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3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26708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(2) SEGUNDO CAS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Nombre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Ingresar un nuevo paciente al sistem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Actor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   Usuari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Descripción</a:t>
            </a: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El 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usuario ingresa la información personal y clínica 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   de un paciente determinado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609588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A continuación se exponen los flujos principales de los caso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6666"/>
                </a:solidFill>
                <a:latin typeface="Arial"/>
              </a:rPr>
              <a:t>(1)</a:t>
            </a:r>
            <a:r>
              <a:rPr b="1" lang="es-ES_tradnl" sz="3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s-ES_tradnl" sz="3000" spc="-1" strike="noStrike">
                <a:solidFill>
                  <a:srgbClr val="006666"/>
                </a:solidFill>
                <a:latin typeface="Arial"/>
              </a:rPr>
              <a:t>Actualizar información </a:t>
            </a:r>
            <a:br>
              <a:rPr sz="3000"/>
            </a:br>
            <a:r>
              <a:rPr b="1" lang="es-ES_tradnl" sz="30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es-ES_tradnl" sz="3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s-ES_tradnl" sz="3000" spc="-1" strike="noStrike">
                <a:solidFill>
                  <a:srgbClr val="006666"/>
                </a:solidFill>
                <a:latin typeface="Arial"/>
              </a:rPr>
              <a:t>médica de un paciente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2438280"/>
            <a:ext cx="7848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El usuario ingresa el RUT del pacient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Se abre la BD y se realiza una búsqueda por el campo RUT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Si la búsqueda no es satisfactoria vuelve a 1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La búsqueda es satisfactoria y se  obtiene la ID de pacient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Se despliega la interfaz del programa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Se buscan los campos que contienen la información del pacient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Se completan los campos con los datos provenientes de la BD y los archivos de texto asociad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El usuario visualiza los datos clínicos anteriores del paciente y adiciona nuevas observacion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</a:rPr>
              <a:t>9.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El usuario finaliza la actualización y el sistema guarda y cierra los archivos y  BD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sulta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90680" y="2361960"/>
            <a:ext cx="39243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7:16:11Z</dcterms:created>
  <dc:creator>Constanza Jerez</dc:creator>
  <dc:description/>
  <dc:language>en-US</dc:language>
  <cp:lastModifiedBy>Daniel Arancibia Carocca</cp:lastModifiedBy>
  <dcterms:modified xsi:type="dcterms:W3CDTF">2005-06-10T19:05:00Z</dcterms:modified>
  <cp:revision>31</cp:revision>
  <dc:subject/>
  <dc:title>ZERO - Tracker</dc:title>
</cp:coreProperties>
</file>