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6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png" ContentType="image/png"/>
  <Override PartName="/ppt/media/image17.wmf" ContentType="image/x-wmf"/>
  <Override PartName="/ppt/media/image15.wmf" ContentType="image/x-wmf"/>
  <Override PartName="/ppt/media/image7.png" ContentType="image/png"/>
  <Override PartName="/ppt/media/image9.png" ContentType="image/png"/>
  <Override PartName="/ppt/media/image22.jpeg" ContentType="image/jpeg"/>
  <Override PartName="/ppt/media/image34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7.jpeg" ContentType="image/jpeg"/>
  <Override PartName="/ppt/media/image38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29.wmf" ContentType="image/x-wmf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D5F9-E7CC-4348-9704-2D2772D171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pacial: Recolección en muchos puntos mejora la prec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mporal: puntos en ciertos horarios, no permite tend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mprecision, no hay herramien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igura mote + figura modulos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E94-1ADD-456B-9021-43DB045A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20B-90F5-44CC-B7A8-08807F5E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A32-B04D-4FA1-A0DA-4374F4C0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D28-9ACC-46DB-8482-6ECF9302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11B-5E84-4D6A-9864-0490B19B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AF5-1820-4CFA-9ED6-B8952E02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2A0-A03E-4B4D-A8FF-4E2C1DFA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8AE-BC0A-42DF-BE2C-9DD58CE4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2B0-6A01-4CA6-997A-DAC63C77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DC2-3388-4080-9F74-F89A839E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1ED-75C3-4497-B747-094C0C8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CD3-5AA4-4B8D-AB81-1E866A9D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3349-92F8-42EE-B11A-53D3A73E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0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0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20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20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20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21.wmf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Futuro.flv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-zb.net/about_toolset.php" TargetMode="External"/><Relationship Id="rId3" Type="http://schemas.openxmlformats.org/officeDocument/2006/relationships/hyperlink" Target="http://www.open-zb.net/about_toolset.php" TargetMode="External"/><Relationship Id="rId4" Type="http://schemas.openxmlformats.org/officeDocument/2006/relationships/hyperlink" Target="http://www.open-zb.net/about_toolset.php" TargetMode="External"/><Relationship Id="rId5" Type="http://schemas.openxmlformats.org/officeDocument/2006/relationships/hyperlink" Target="http://www.open-zb.net/about_toolset.php" TargetMode="External"/><Relationship Id="rId6" Type="http://schemas.openxmlformats.org/officeDocument/2006/relationships/hyperlink" Target="http://www.open-zb.net/about_toolset.php" TargetMode="External"/><Relationship Id="rId7" Type="http://schemas.openxmlformats.org/officeDocument/2006/relationships/hyperlink" Target="http://www.open-zb.net/about_toolset.php" TargetMode="External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wer.ti.com/" TargetMode="External"/><Relationship Id="rId3" Type="http://schemas.openxmlformats.org/officeDocument/2006/relationships/hyperlink" Target="http://power.ti.com/" TargetMode="Externa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1049800">
            <a:off x="-468000" y="5516280"/>
            <a:ext cx="10148760" cy="3090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5405400"/>
            <a:ext cx="396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José Ulloa Suá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Cesar León Soledis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Ingeniería WiseConn 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36640"/>
            <a:ext cx="7885080" cy="1429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2440" y="907920"/>
            <a:ext cx="3166920" cy="1148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27280" y="-88920"/>
            <a:ext cx="6048360" cy="2149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539640" y="0"/>
            <a:ext cx="3516120" cy="938160"/>
            <a:chOff x="539640" y="0"/>
            <a:chExt cx="3516120" cy="93816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539640" y="434880"/>
              <a:ext cx="138276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1414800" y="0"/>
              <a:ext cx="2640960" cy="9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0" y="2133720"/>
            <a:ext cx="9144000" cy="19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92280"/>
            <a:ext cx="9144000" cy="35892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0"/>
            <a:ext cx="217440" cy="6858000"/>
          </a:xfrm>
          <a:prstGeom prst="rect">
            <a:avLst/>
          </a:prstGeom>
          <a:solidFill>
            <a:srgbClr val="f76b2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f76b29">
                  <a:alpha val="55294"/>
                </a:srgbClr>
              </a:gs>
              <a:gs pos="100000">
                <a:srgbClr val="7131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34559E-006 L 0.53454 0.00046 E">
                                      <p:cBhvr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rdware peque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en el uso de ener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lerancia a fal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ftware –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onfigurabilidad de la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liegue de nodos a gran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diciones ambientales sev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973680" y="-360"/>
            <a:ext cx="517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73680" y="-360"/>
            <a:ext cx="517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BenguiatGot Bk BT"/>
              </a:rPr>
              <a:t>Nodo 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6200" y="2133720"/>
            <a:ext cx="5040360" cy="27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258920" y="1628640"/>
            <a:ext cx="2403360" cy="574920"/>
          </a:xfrm>
          <a:prstGeom prst="borderCallout1">
            <a:avLst>
              <a:gd name="adj1" fmla="val 18750"/>
              <a:gd name="adj2" fmla="val -8333"/>
              <a:gd name="adj3" fmla="val 184532"/>
              <a:gd name="adj4" fmla="val 110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Humedad Relativa y 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0200" y="2421000"/>
            <a:ext cx="2125800" cy="431640"/>
          </a:xfrm>
          <a:prstGeom prst="borderCallout1">
            <a:avLst>
              <a:gd name="adj1" fmla="val 18750"/>
              <a:gd name="adj2" fmla="val -8333"/>
              <a:gd name="adj3" fmla="val 88601"/>
              <a:gd name="adj4" fmla="val 109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Radiación Total y 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46920" y="1989000"/>
            <a:ext cx="1765440" cy="432000"/>
          </a:xfrm>
          <a:prstGeom prst="borderCallout1">
            <a:avLst>
              <a:gd name="adj1" fmla="val 18750"/>
              <a:gd name="adj2" fmla="val -8333"/>
              <a:gd name="adj3" fmla="val 141546"/>
              <a:gd name="adj4" fmla="val -53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Antena Integ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1197000"/>
            <a:ext cx="2017800" cy="574560"/>
          </a:xfrm>
          <a:prstGeom prst="borderCallout1">
            <a:avLst>
              <a:gd name="adj1" fmla="val 18750"/>
              <a:gd name="adj2" fmla="val -8333"/>
              <a:gd name="adj3" fmla="val 244199"/>
              <a:gd name="adj4" fmla="val -79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erto Expa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ADC, I/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4680" y="5118120"/>
            <a:ext cx="6628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EEE 802.15.4 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jo consumo (2 pilas A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año (6.3 cm x 3.2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sta 150 metros de alcance y 400 metros con antena ex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2280" y="3068640"/>
            <a:ext cx="2125800" cy="431640"/>
          </a:xfrm>
          <a:prstGeom prst="borderCallout1">
            <a:avLst>
              <a:gd name="adj1" fmla="val 18750"/>
              <a:gd name="adj2" fmla="val -8333"/>
              <a:gd name="adj3" fmla="val 180148"/>
              <a:gd name="adj4" fmla="val 150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uerto J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2924280"/>
            <a:ext cx="2160360" cy="865080"/>
          </a:xfrm>
          <a:prstGeom prst="borderCallout1">
            <a:avLst>
              <a:gd name="adj1" fmla="val 18750"/>
              <a:gd name="adj2" fmla="val -8333"/>
              <a:gd name="adj3" fmla="val 2569"/>
              <a:gd name="adj4" fmla="val -67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ódulo de comunicación inalámb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4221000"/>
            <a:ext cx="2160360" cy="865440"/>
          </a:xfrm>
          <a:prstGeom prst="borderCallout1">
            <a:avLst>
              <a:gd name="adj1" fmla="val 18750"/>
              <a:gd name="adj2" fmla="val -8333"/>
              <a:gd name="adj3" fmla="val -94495"/>
              <a:gd name="adj4" fmla="val -1294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Microcontro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(Contiene Sistema Operativo Embeb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971640" y="1197000"/>
          <a:ext cx="372564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97000"/>
                    <a:ext cx="37256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292720" y="1413000"/>
            <a:ext cx="3313080" cy="47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istema Operativo para W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TinyOS, SOS, Conti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C2420 (ChipC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1341360"/>
            <a:ext cx="216000" cy="2951280"/>
          </a:xfrm>
          <a:custGeom>
            <a:avLst/>
            <a:gdLst>
              <a:gd name="textAreaLeft" fmla="*/ 0 w 216000"/>
              <a:gd name="textAreaRight" fmla="*/ 78120 w 21600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450864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73680" y="0"/>
            <a:ext cx="51703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Soluciones tecnológicas que mejoran la productividad y facilitan el control de los sistemas productivos por medio de las comunicaciones inalámbricas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73680" y="-360"/>
            <a:ext cx="517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WiseCo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40320" y="1990800"/>
          <a:ext cx="3641760" cy="31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40320" y="1990800"/>
                    <a:ext cx="364176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213080" y="5013360"/>
          <a:ext cx="3754440" cy="127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3080" y="5013360"/>
                    <a:ext cx="3754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427280" y="1557360"/>
            <a:ext cx="3085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-Recolección manual de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73840" y="1989000"/>
            <a:ext cx="2331000" cy="1296720"/>
            <a:chOff x="1473840" y="1989000"/>
            <a:chExt cx="2331000" cy="1296720"/>
          </a:xfrm>
        </p:grpSpPr>
        <p:grpSp>
          <p:nvGrpSpPr>
            <p:cNvPr id="135" name=""/>
            <p:cNvGrpSpPr/>
            <p:nvPr/>
          </p:nvGrpSpPr>
          <p:grpSpPr>
            <a:xfrm>
              <a:off x="1979280" y="2349360"/>
              <a:ext cx="1150200" cy="936360"/>
              <a:chOff x="1979280" y="2349360"/>
              <a:chExt cx="1150200" cy="936360"/>
            </a:xfrm>
          </p:grpSpPr>
          <p:sp>
            <p:nvSpPr>
              <p:cNvPr id="136" name=""/>
              <p:cNvSpPr/>
              <p:nvPr/>
            </p:nvSpPr>
            <p:spPr>
              <a:xfrm>
                <a:off x="1979280" y="2349360"/>
                <a:ext cx="1150200" cy="936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2121480" y="2422440"/>
                <a:ext cx="793080" cy="74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"/>
            <p:cNvSpPr/>
            <p:nvPr/>
          </p:nvSpPr>
          <p:spPr>
            <a:xfrm>
              <a:off x="1473840" y="1989000"/>
              <a:ext cx="2331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- Análisis de los d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30560" y="3429000"/>
            <a:ext cx="2327760" cy="1728720"/>
            <a:chOff x="1330560" y="3429000"/>
            <a:chExt cx="2327760" cy="1728720"/>
          </a:xfrm>
        </p:grpSpPr>
        <p:sp>
          <p:nvSpPr>
            <p:cNvPr id="140" name=""/>
            <p:cNvSpPr/>
            <p:nvPr/>
          </p:nvSpPr>
          <p:spPr>
            <a:xfrm rot="5400000">
              <a:off x="2293200" y="3330720"/>
              <a:ext cx="576360" cy="772920"/>
            </a:xfrm>
            <a:custGeom>
              <a:avLst/>
              <a:gdLst>
                <a:gd name="textAreaLeft" fmla="*/ 90000 w 576360"/>
                <a:gd name="textAreaRight" fmla="*/ 504360 w 576360"/>
                <a:gd name="textAreaTop" fmla="*/ 193320 h 772920"/>
                <a:gd name="textAreaBottom" fmla="*/ 579960 h 77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30560" y="3933720"/>
              <a:ext cx="2327760" cy="1224000"/>
              <a:chOff x="1330560" y="3933720"/>
              <a:chExt cx="2327760" cy="1224000"/>
            </a:xfrm>
          </p:grpSpPr>
          <p:sp>
            <p:nvSpPr>
              <p:cNvPr id="142" name=""/>
              <p:cNvSpPr/>
              <p:nvPr/>
            </p:nvSpPr>
            <p:spPr>
              <a:xfrm>
                <a:off x="1330560" y="3933720"/>
                <a:ext cx="23277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.- Toma de Decisi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1979280" y="4221000"/>
                <a:ext cx="1150920" cy="936720"/>
                <a:chOff x="1979280" y="4221000"/>
                <a:chExt cx="1150920" cy="936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979280" y="4221000"/>
                  <a:ext cx="1150920" cy="936720"/>
                </a:xfrm>
                <a:prstGeom prst="flowChartAlternateProcess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5" name=""/>
                <p:cNvGraphicFramePr/>
                <p:nvPr/>
              </p:nvGraphicFramePr>
              <p:xfrm>
                <a:off x="2052000" y="4363920"/>
                <a:ext cx="959040" cy="64944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46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052000" y="4363920"/>
                          <a:ext cx="959040" cy="64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grpSp>
        <p:nvGrpSpPr>
          <p:cNvPr id="147" name=""/>
          <p:cNvGrpSpPr/>
          <p:nvPr/>
        </p:nvGrpSpPr>
        <p:grpSpPr>
          <a:xfrm>
            <a:off x="2267640" y="4437000"/>
            <a:ext cx="2377080" cy="1775160"/>
            <a:chOff x="2267640" y="4437000"/>
            <a:chExt cx="2377080" cy="1775160"/>
          </a:xfrm>
        </p:grpSpPr>
        <p:sp>
          <p:nvSpPr>
            <p:cNvPr id="148" name=""/>
            <p:cNvSpPr/>
            <p:nvPr/>
          </p:nvSpPr>
          <p:spPr>
            <a:xfrm flipH="1">
              <a:off x="2626560" y="4437000"/>
              <a:ext cx="2017800" cy="1368360"/>
            </a:xfrm>
            <a:custGeom>
              <a:avLst/>
              <a:gdLst>
                <a:gd name="textAreaLeft" fmla="*/ 0 w 2017800"/>
                <a:gd name="textAreaRight" fmla="*/ 2017800 w 201780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190" y="4860"/>
                  </a:moveTo>
                  <a:arcTo wR="-5953" hR="-5953" stAng="-5174651" swAng="-4896309"/>
                  <a:lnTo>
                    <a:pt x="21358" y="13073"/>
                  </a:lnTo>
                  <a:arcTo wR="10800" hR="10800" stAng="729040" swAng="4896309"/>
                  <a:lnTo>
                    <a:pt x="9916" y="24271"/>
                  </a:lnTo>
                  <a:lnTo>
                    <a:pt x="5139" y="18823"/>
                  </a:lnTo>
                  <a:lnTo>
                    <a:pt x="10587" y="1404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67640" y="5877000"/>
              <a:ext cx="240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 rot="3847800">
            <a:off x="4317840" y="1664280"/>
            <a:ext cx="2519280" cy="3312000"/>
          </a:xfrm>
          <a:custGeom>
            <a:avLst/>
            <a:gdLst>
              <a:gd name="textAreaLeft" fmla="*/ 360 w 2519280"/>
              <a:gd name="textAreaRight" fmla="*/ 2520000 w 2519280"/>
              <a:gd name="textAreaTop" fmla="*/ 0 h 3312000"/>
              <a:gd name="textAreaBottom" fmla="*/ 3312360 h 3312000"/>
            </a:gdLst>
            <a:ahLst/>
            <a:rect l="textAreaLeft" t="textAreaTop" r="textAreaRight" b="textAreaBottom"/>
            <a:pathLst>
              <a:path w="21600" h="21600">
                <a:moveTo>
                  <a:pt x="3240" y="9827"/>
                </a:moveTo>
                <a:arcTo wR="-7622" hR="-7622" stAng="-10359969" swAng="-14669744"/>
                <a:lnTo>
                  <a:pt x="4944" y="19874"/>
                </a:lnTo>
                <a:arcTo wR="10800" hR="10800" stAng="7370287" swAng="14669744"/>
                <a:lnTo>
                  <a:pt x="24190" y="12523"/>
                </a:lnTo>
                <a:lnTo>
                  <a:pt x="19388" y="16230"/>
                </a:lnTo>
                <a:lnTo>
                  <a:pt x="15682" y="11428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90920" y="3068640"/>
          <a:ext cx="4316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0920" y="3068640"/>
                    <a:ext cx="431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5580000" y="1989000"/>
            <a:ext cx="2087640" cy="3095640"/>
            <a:chOff x="5580000" y="1989000"/>
            <a:chExt cx="2087640" cy="3095640"/>
          </a:xfrm>
        </p:grpSpPr>
        <p:sp>
          <p:nvSpPr>
            <p:cNvPr id="154" name=""/>
            <p:cNvSpPr/>
            <p:nvPr/>
          </p:nvSpPr>
          <p:spPr>
            <a:xfrm>
              <a:off x="5580000" y="1989000"/>
              <a:ext cx="216000" cy="3095640"/>
            </a:xfrm>
            <a:prstGeom prst="flowChartAlternateProcess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15280" y="1989000"/>
              <a:ext cx="216000" cy="3095640"/>
            </a:xfrm>
            <a:prstGeom prst="flowChartAlternateProcess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52000" y="1989000"/>
              <a:ext cx="215640" cy="3095640"/>
            </a:xfrm>
            <a:prstGeom prst="flowChartAlternateProcess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5435640" y="2276640"/>
          <a:ext cx="581040" cy="223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2276640"/>
                    <a:ext cx="58104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372360" y="2276640"/>
          <a:ext cx="507960" cy="223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2276640"/>
                    <a:ext cx="50796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308720" y="2276640"/>
          <a:ext cx="507960" cy="2239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8720" y="2276640"/>
                    <a:ext cx="50796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692600" y="4437000"/>
            <a:ext cx="720720" cy="451080"/>
          </a:xfrm>
          <a:prstGeom prst="cloudCallout">
            <a:avLst>
              <a:gd name="adj1" fmla="val -44935"/>
              <a:gd name="adj2" fmla="val 87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73680" y="-360"/>
            <a:ext cx="517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bl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7 -1.85185E-006 C 0.01007 0.01945 0.03056 0.08889 0.06024 0.11621 C 0.08993 0.14352 0.13472 0.17176 0.1783 0.16435 C 0.22188 0.15695 0.29497 0.11898 0.32135 0.07176 C 0.34774 0.02454 0.35451 -0.07731 0.33663 -0.11898 C 0.31875 -0.16065 0.25747 -0.1787 0.21441 -0.17824 C 0.17135 -0.17778 0.1224 -0.12847 0.07778 -0.11666 C 0.03316 -0.10486 -0.00816 -0.10509 -0.05278 -0.10741 E">
                                      <p:cBhvr>
                                        <p:cTn id="131" dur="43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8 -0.10741 C -0.05781 -0.08217 -0.08368 -0.0081 -0.08281 0.04398 C -0.08194 0.09607 -0.05469 0.17199 -0.04722 0.20556 E">
                                      <p:cBhvr>
                                        <p:cTn id="14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20556 C -0.03785 0.21574 -0.01389 0.25463 0.00885 0.26621 C 0.0316 0.27778 0.07257 0.27361 0.08941 0.27546 E">
                                      <p:cBhvr>
                                        <p:cTn id="147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xit" presetID="12" presetSubtype="4">
                                  <p:stCondLst>
                                    <p:cond delay="9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6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5465520" cy="3673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V="1">
            <a:off x="1476360" y="3860280"/>
            <a:ext cx="93492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1656000" cy="152892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3492360" y="2133720"/>
            <a:ext cx="5473440" cy="2016720"/>
            <a:chOff x="3492360" y="2133720"/>
            <a:chExt cx="5473440" cy="2016720"/>
          </a:xfrm>
        </p:grpSpPr>
        <p:sp>
          <p:nvSpPr>
            <p:cNvPr id="169" name=""/>
            <p:cNvSpPr/>
            <p:nvPr/>
          </p:nvSpPr>
          <p:spPr>
            <a:xfrm flipV="1">
              <a:off x="3492360" y="3718800"/>
              <a:ext cx="3600360" cy="4316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92360" y="2350800"/>
              <a:ext cx="2447640" cy="2869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581440" y="2638080"/>
              <a:ext cx="358560" cy="2887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581440" y="2926800"/>
              <a:ext cx="1511280" cy="7916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092720" y="3285360"/>
              <a:ext cx="1873080" cy="433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940000" y="2493360"/>
              <a:ext cx="360360" cy="145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229080" y="2350800"/>
              <a:ext cx="71280" cy="142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52720" y="2206440"/>
              <a:ext cx="3313080" cy="7916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3440" y="2134800"/>
              <a:ext cx="1079280" cy="71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924000" y="2133720"/>
              <a:ext cx="647640" cy="2887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24360" y="2134800"/>
              <a:ext cx="215640" cy="727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0000" y="2134800"/>
              <a:ext cx="3025800" cy="2156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V="1">
            <a:off x="2986200" y="3428640"/>
            <a:ext cx="1439640" cy="43164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5840" y="3429000"/>
            <a:ext cx="1513080" cy="7128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38920" y="2708280"/>
            <a:ext cx="792000" cy="79200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594560" y="2708280"/>
            <a:ext cx="792360" cy="43344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30920" y="2492280"/>
            <a:ext cx="863640" cy="21744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857840" y="2420640"/>
            <a:ext cx="576000" cy="43164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938920" y="3500280"/>
            <a:ext cx="1800000" cy="72072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425480" y="3429000"/>
            <a:ext cx="360360" cy="122400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938920" y="3141720"/>
            <a:ext cx="1655640" cy="35856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25840" y="2852280"/>
            <a:ext cx="433440" cy="57636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785840" y="2349360"/>
            <a:ext cx="71640" cy="503280"/>
          </a:xfrm>
          <a:prstGeom prst="line">
            <a:avLst/>
          </a:prstGeom>
          <a:ln w="2844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788000" y="2492280"/>
          <a:ext cx="395280" cy="43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92280"/>
                    <a:ext cx="395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211640" y="3141720"/>
          <a:ext cx="463680" cy="5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11640" y="3141720"/>
                    <a:ext cx="463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4221000"/>
          <a:ext cx="662040" cy="71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4221000"/>
                    <a:ext cx="6620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596360" y="3933720"/>
          <a:ext cx="528480" cy="57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96360" y="3933720"/>
                    <a:ext cx="5284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796000" y="3141720"/>
          <a:ext cx="460440" cy="501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96000" y="3141720"/>
                    <a:ext cx="4604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451640" y="2852640"/>
          <a:ext cx="395280" cy="43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51640" y="2852640"/>
                    <a:ext cx="395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364000" y="2133720"/>
          <a:ext cx="262080" cy="285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64000" y="2133720"/>
                    <a:ext cx="2620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588000" y="2492280"/>
          <a:ext cx="327240" cy="357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88000" y="2492280"/>
                    <a:ext cx="327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8317080" y="2492280"/>
          <a:ext cx="261720" cy="28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317080" y="2492280"/>
                    <a:ext cx="26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7524720" y="2276640"/>
          <a:ext cx="262080" cy="285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524720" y="2276640"/>
                    <a:ext cx="2620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716360" y="2133720"/>
          <a:ext cx="195480" cy="2127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716360" y="2133720"/>
                    <a:ext cx="195480" cy="2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187280" y="3860640"/>
            <a:ext cx="289080" cy="227160"/>
          </a:xfrm>
          <a:custGeom>
            <a:avLst/>
            <a:gdLst/>
            <a:ahLst/>
            <a:rect l="l" t="t" r="r" b="b"/>
            <a:pathLst>
              <a:path w="182" h="104">
                <a:moveTo>
                  <a:pt x="0" y="52"/>
                </a:moveTo>
                <a:cubicBezTo>
                  <a:pt x="34" y="26"/>
                  <a:pt x="68" y="0"/>
                  <a:pt x="91" y="7"/>
                </a:cubicBezTo>
                <a:cubicBezTo>
                  <a:pt x="114" y="14"/>
                  <a:pt x="121" y="90"/>
                  <a:pt x="136" y="97"/>
                </a:cubicBezTo>
                <a:cubicBezTo>
                  <a:pt x="151" y="104"/>
                  <a:pt x="174" y="59"/>
                  <a:pt x="182" y="52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87280" y="3933720"/>
            <a:ext cx="289080" cy="239760"/>
          </a:xfrm>
          <a:custGeom>
            <a:avLst/>
            <a:gdLst/>
            <a:ahLst/>
            <a:rect l="l" t="t" r="r" b="b"/>
            <a:pathLst>
              <a:path w="182" h="151">
                <a:moveTo>
                  <a:pt x="0" y="0"/>
                </a:moveTo>
                <a:cubicBezTo>
                  <a:pt x="15" y="19"/>
                  <a:pt x="30" y="38"/>
                  <a:pt x="45" y="45"/>
                </a:cubicBezTo>
                <a:cubicBezTo>
                  <a:pt x="60" y="52"/>
                  <a:pt x="76" y="30"/>
                  <a:pt x="91" y="45"/>
                </a:cubicBezTo>
                <a:cubicBezTo>
                  <a:pt x="106" y="60"/>
                  <a:pt x="121" y="121"/>
                  <a:pt x="136" y="136"/>
                </a:cubicBezTo>
                <a:cubicBezTo>
                  <a:pt x="151" y="151"/>
                  <a:pt x="174" y="136"/>
                  <a:pt x="182" y="13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340000" y="3357720"/>
          <a:ext cx="981000" cy="8632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340000" y="3357720"/>
                    <a:ext cx="9810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611280" y="1628640"/>
            <a:ext cx="2808360" cy="2737080"/>
            <a:chOff x="611280" y="1628640"/>
            <a:chExt cx="2808360" cy="2737080"/>
          </a:xfrm>
        </p:grpSpPr>
        <p:sp>
          <p:nvSpPr>
            <p:cNvPr id="219" name=""/>
            <p:cNvSpPr/>
            <p:nvPr/>
          </p:nvSpPr>
          <p:spPr>
            <a:xfrm>
              <a:off x="2124000" y="3573360"/>
              <a:ext cx="1295640" cy="792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280" y="1628640"/>
              <a:ext cx="2665440" cy="13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Permite conexión entre  la red inalámbrica y el computad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lmacena datos si falla conexión al 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ordina la 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8360" y="3068640"/>
              <a:ext cx="21600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211640" y="4437000"/>
            <a:ext cx="4462560" cy="2005560"/>
            <a:chOff x="4211640" y="4437000"/>
            <a:chExt cx="4462560" cy="2005560"/>
          </a:xfrm>
        </p:grpSpPr>
        <p:sp>
          <p:nvSpPr>
            <p:cNvPr id="223" name=""/>
            <p:cNvSpPr/>
            <p:nvPr/>
          </p:nvSpPr>
          <p:spPr>
            <a:xfrm>
              <a:off x="4211640" y="4437000"/>
              <a:ext cx="1297080" cy="798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7280" y="5589720"/>
              <a:ext cx="2806920" cy="85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Obtención de datos de sens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nterpretar comandos y registrar eventos y fall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62560" y="5229360"/>
              <a:ext cx="43344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73680" y="-360"/>
            <a:ext cx="517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lución Pro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6804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26920" y="1197000"/>
            <a:ext cx="7632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zaciones de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 número de nodos sincronizados midien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iendo periód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agricultura, microclim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zaciones de 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ón para detección de anomalías o ataques en entornos monitorizados continuamente por sen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án continuamente enviando datos, solo si ocurre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s: control de edificios inteligentes, detección de incendios, aplicaciones milita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973680" y="-360"/>
            <a:ext cx="517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BenguiatGot Bk BT"/>
              </a:rPr>
              <a:t>Aplicaciones de las W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26920" y="1197000"/>
            <a:ext cx="7632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licación para controlar objetos que están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tiquetad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nodos sensores en una región determi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opología de la red es muy diná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s: Rastreo de animales, funcionarios dentro de una empres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es Híbr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enarios de aplicación que contienen aspectos de las tres categorí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3973680" y="-360"/>
            <a:ext cx="517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BenguiatGot Bk BT"/>
              </a:rPr>
              <a:t>Aplicaciones de las W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724360" y="6310440"/>
            <a:ext cx="267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zación 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49560" y="0"/>
            <a:ext cx="5194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BenguiatGot Bk BT"/>
              </a:rPr>
              <a:t>Potenciales industrias</a:t>
            </a:r>
            <a:r>
              <a:rPr b="0" lang="es-CL" sz="3600" spc="-1" strike="noStrike">
                <a:solidFill>
                  <a:srgbClr val="000000"/>
                </a:solidFill>
                <a:latin typeface="BenguiatGot Bk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012360" y="1341360"/>
            <a:ext cx="3022920" cy="1950840"/>
            <a:chOff x="6012360" y="1341360"/>
            <a:chExt cx="3022920" cy="1950840"/>
          </a:xfrm>
        </p:grpSpPr>
        <p:sp>
          <p:nvSpPr>
            <p:cNvPr id="235" name=""/>
            <p:cNvSpPr/>
            <p:nvPr/>
          </p:nvSpPr>
          <p:spPr>
            <a:xfrm>
              <a:off x="6086880" y="3272760"/>
              <a:ext cx="206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154000" y="2221560"/>
              <a:ext cx="442440" cy="10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12360" y="2893320"/>
              <a:ext cx="15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uicul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2"/>
            <a:srcRect l="0" t="21995" r="0" b="0"/>
            <a:stretch/>
          </p:blipFill>
          <p:spPr>
            <a:xfrm>
              <a:off x="6848640" y="1341360"/>
              <a:ext cx="2186640" cy="13939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250920" y="1413000"/>
            <a:ext cx="2842560" cy="2079360"/>
            <a:chOff x="250920" y="1413000"/>
            <a:chExt cx="2842560" cy="2079360"/>
          </a:xfrm>
        </p:grpSpPr>
        <p:sp>
          <p:nvSpPr>
            <p:cNvPr id="240" name=""/>
            <p:cNvSpPr/>
            <p:nvPr/>
          </p:nvSpPr>
          <p:spPr>
            <a:xfrm flipH="1">
              <a:off x="2042280" y="2689560"/>
              <a:ext cx="384480" cy="75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1290960" y="1413000"/>
              <a:ext cx="1802520" cy="1485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42" name=""/>
            <p:cNvSpPr/>
            <p:nvPr/>
          </p:nvSpPr>
          <p:spPr>
            <a:xfrm>
              <a:off x="250920" y="3448800"/>
              <a:ext cx="178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4320" y="309348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lemet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>
            <a:off x="8366040" y="5670720"/>
            <a:ext cx="34128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industria.jpg (8457 byte)"/>
          <p:cNvPicPr/>
          <p:nvPr/>
        </p:nvPicPr>
        <p:blipFill>
          <a:blip r:embed="rId4"/>
          <a:stretch/>
        </p:blipFill>
        <p:spPr>
          <a:xfrm>
            <a:off x="7164360" y="4006800"/>
            <a:ext cx="1822320" cy="197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6778800" y="6662880"/>
            <a:ext cx="15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076560" y="4365720"/>
            <a:ext cx="2431800" cy="2348640"/>
            <a:chOff x="3076560" y="4365720"/>
            <a:chExt cx="2431800" cy="2348640"/>
          </a:xfrm>
        </p:grpSpPr>
        <p:sp>
          <p:nvSpPr>
            <p:cNvPr id="248" name=""/>
            <p:cNvSpPr/>
            <p:nvPr/>
          </p:nvSpPr>
          <p:spPr>
            <a:xfrm>
              <a:off x="3076560" y="6622560"/>
              <a:ext cx="14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84160" y="5761440"/>
              <a:ext cx="300960" cy="86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76560" y="631548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es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4209480" y="4365720"/>
              <a:ext cx="1298880" cy="1877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52" name=""/>
          <p:cNvGrpSpPr/>
          <p:nvPr/>
        </p:nvGrpSpPr>
        <p:grpSpPr>
          <a:xfrm>
            <a:off x="0" y="3979800"/>
            <a:ext cx="2089080" cy="2737800"/>
            <a:chOff x="0" y="3979800"/>
            <a:chExt cx="2089080" cy="2737800"/>
          </a:xfrm>
        </p:grpSpPr>
        <p:grpSp>
          <p:nvGrpSpPr>
            <p:cNvPr id="253" name=""/>
            <p:cNvGrpSpPr/>
            <p:nvPr/>
          </p:nvGrpSpPr>
          <p:grpSpPr>
            <a:xfrm>
              <a:off x="0" y="5918040"/>
              <a:ext cx="1793880" cy="738000"/>
              <a:chOff x="0" y="5918040"/>
              <a:chExt cx="1793880" cy="7380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6656040"/>
                <a:ext cx="147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477800" y="5918040"/>
                <a:ext cx="316080" cy="73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205200" y="631872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578520" y="3979800"/>
              <a:ext cx="1510560" cy="2031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58" name=""/>
          <p:cNvSpPr/>
          <p:nvPr/>
        </p:nvSpPr>
        <p:spPr>
          <a:xfrm flipH="1">
            <a:off x="4660920" y="2976480"/>
            <a:ext cx="355680" cy="73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08160" y="3710160"/>
            <a:ext cx="165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59640" y="32860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ó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635280" y="1414440"/>
            <a:ext cx="2232000" cy="17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7047000" cy="563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sión y Fut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e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 Con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365720"/>
            <a:ext cx="136836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ont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4941720"/>
            <a:ext cx="1368360" cy="10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79800" y="4510080"/>
            <a:ext cx="18057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9960" y="3933720"/>
            <a:ext cx="2082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0520" y="573408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Lic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02680" y="5589720"/>
            <a:ext cx="2145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y u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1557360"/>
            <a:ext cx="7632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Desarrollado por el “Networked Embedded Systems Group” en el Instituto de Ciencias Computacionales en Sue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Sistema operativo open source portable, multitarea diseñado para la interconexión de sistemas embeb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Diseñado para el uso de poca cantidad de mem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 Con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4292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Metodología para importar a este sistema operativo aplicaciones Tiny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1844640"/>
            <a:ext cx="136836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ont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2421000"/>
            <a:ext cx="1368360" cy="10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22720" y="1989000"/>
            <a:ext cx="18057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1413000"/>
            <a:ext cx="20829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sp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3440" y="321300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Lic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45600" y="3068640"/>
            <a:ext cx="2145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y u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71640" y="5373720"/>
            <a:ext cx="1224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Wise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92720" y="5373720"/>
            <a:ext cx="1224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Wise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ont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558972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4475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Gateway: Conexión </a:t>
            </a: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recta a re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3443400"/>
            <a:ext cx="431640" cy="43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6360" y="3083040"/>
            <a:ext cx="431640" cy="43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00720" y="3875040"/>
            <a:ext cx="647640" cy="649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588000" y="3573360"/>
          <a:ext cx="1584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3573360"/>
                    <a:ext cx="1584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0" name=""/>
          <p:cNvCxnSpPr>
            <a:stCxn id="286" idx="6"/>
            <a:endCxn id="287" idx="1"/>
          </p:cNvCxnSpPr>
          <p:nvPr/>
        </p:nvCxnSpPr>
        <p:spPr>
          <a:xfrm>
            <a:off x="3348000" y="3298680"/>
            <a:ext cx="1248480" cy="67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1908000" y="2508120"/>
            <a:ext cx="432000" cy="43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91" idx="6"/>
            <a:endCxn id="286" idx="1"/>
          </p:cNvCxnSpPr>
          <p:nvPr/>
        </p:nvCxnSpPr>
        <p:spPr>
          <a:xfrm>
            <a:off x="2339640" y="2723760"/>
            <a:ext cx="64044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5" idx="6"/>
            <a:endCxn id="286" idx="3"/>
          </p:cNvCxnSpPr>
          <p:nvPr/>
        </p:nvCxnSpPr>
        <p:spPr>
          <a:xfrm flipV="1">
            <a:off x="2266920" y="3450600"/>
            <a:ext cx="713520" cy="20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1762200" y="5099040"/>
            <a:ext cx="431640" cy="43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4738680"/>
            <a:ext cx="431640" cy="43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35280" y="4164120"/>
            <a:ext cx="431640" cy="43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6"/>
            <a:endCxn id="295" idx="1"/>
          </p:cNvCxnSpPr>
          <p:nvPr/>
        </p:nvCxnSpPr>
        <p:spPr>
          <a:xfrm>
            <a:off x="2266560" y="4379400"/>
            <a:ext cx="64044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4" idx="6"/>
            <a:endCxn id="295" idx="3"/>
          </p:cNvCxnSpPr>
          <p:nvPr/>
        </p:nvCxnSpPr>
        <p:spPr>
          <a:xfrm flipV="1">
            <a:off x="2193840" y="5106600"/>
            <a:ext cx="7135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5" idx="6"/>
            <a:endCxn id="287" idx="3"/>
          </p:cNvCxnSpPr>
          <p:nvPr/>
        </p:nvCxnSpPr>
        <p:spPr>
          <a:xfrm flipV="1">
            <a:off x="3274560" y="4428720"/>
            <a:ext cx="1321200" cy="526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endCxn id="287" idx="6"/>
          </p:cNvCxnSpPr>
          <p:nvPr/>
        </p:nvCxnSpPr>
        <p:spPr>
          <a:xfrm flipH="1">
            <a:off x="5147640" y="4196880"/>
            <a:ext cx="1440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5416560" y="3659040"/>
            <a:ext cx="95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03280" y="2219400"/>
            <a:ext cx="2376720" cy="3600360"/>
          </a:xfrm>
          <a:custGeom>
            <a:avLst/>
            <a:gdLst>
              <a:gd name="textAreaLeft" fmla="*/ 115920 w 2376720"/>
              <a:gd name="textAreaRight" fmla="*/ 2260800 w 2376720"/>
              <a:gd name="textAreaTop" fmla="*/ 115920 h 3600360"/>
              <a:gd name="textAreaBottom" fmla="*/ 3484440 h 3600360"/>
            </a:gdLst>
            <a:ahLst/>
            <a:rect l="textAreaLeft" t="textAreaTop" r="textAreaRight" b="textAreaBottom"/>
            <a:pathLst>
              <a:path w="21600" h="32719">
                <a:moveTo>
                  <a:pt x="3600" y="0"/>
                </a:moveTo>
                <a:arcTo wR="3600" hR="3600" stAng="16200000" swAng="-5400000"/>
                <a:lnTo>
                  <a:pt x="0" y="29119"/>
                </a:lnTo>
                <a:arcTo wR="3600" hR="3600" stAng="10800000" swAng="-5400000"/>
                <a:lnTo>
                  <a:pt x="18000" y="327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32000" y="193212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d inalámbrica de s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2916360" y="2419200"/>
            <a:ext cx="3240000" cy="3025800"/>
            <a:chOff x="2916360" y="2419200"/>
            <a:chExt cx="3240000" cy="3025800"/>
          </a:xfrm>
        </p:grpSpPr>
        <p:sp>
          <p:nvSpPr>
            <p:cNvPr id="305" name=""/>
            <p:cNvSpPr/>
            <p:nvPr/>
          </p:nvSpPr>
          <p:spPr>
            <a:xfrm>
              <a:off x="2916360" y="2419200"/>
              <a:ext cx="3240000" cy="3024720"/>
            </a:xfrm>
            <a:prstGeom prst="ellipse">
              <a:avLst/>
            </a:prstGeom>
            <a:gradFill rotWithShape="0">
              <a:gsLst>
                <a:gs pos="0">
                  <a:srgbClr val="fedba7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36360" y="2419200"/>
              <a:ext cx="0" cy="302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851280" y="2060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do 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08360" y="3213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/>
          <p:nvPr/>
        </p:nvCxnSpPr>
        <p:spPr>
          <a:xfrm>
            <a:off x="4211640" y="3644640"/>
            <a:ext cx="72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310" name=""/>
          <p:cNvSpPr/>
          <p:nvPr/>
        </p:nvSpPr>
        <p:spPr>
          <a:xfrm>
            <a:off x="3276720" y="3933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789360"/>
            <a:ext cx="10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ódulo 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1666800" cy="10666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877080" y="2133720"/>
            <a:ext cx="1273320" cy="1265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7020000" y="4005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4475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Gateway: Conexión </a:t>
            </a: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recta a re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7280" y="404280"/>
            <a:ext cx="45370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6lowPAN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Pv6 over Low-Power Wireless Personal Area Network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¿Qué es el 6low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upo de trabajo del IETF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Internet Engineering Task Forc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 el área d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Objetivo del 6low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ir la transmisión y recepción de paquetes IPv6 en las WPAN (Wireless Personal Area Networks), específicamente sobre las redes basadas en el estándar IEEE802.15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ivo de este desarrollo es para soluciones que involucren dispositivos relativamente sencillos y de bajo costo que necesiten conectividad inalámbrica de internet a tasas de transferencia relativamente ba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licado a las redes inalámbricas de sensores permitiría un direccionamiento directo de cada nodo de la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427280" y="404280"/>
            <a:ext cx="45370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6lowPAN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Pv6 over Low-Power Wireless Personal Area Network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6048720" cy="52894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6lowP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4727520" cy="4525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830920" y="1341360"/>
            <a:ext cx="3313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istema Operativo para W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C2420 (ChipC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80000" y="1484280"/>
            <a:ext cx="287280" cy="3024360"/>
          </a:xfrm>
          <a:custGeom>
            <a:avLst/>
            <a:gdLst>
              <a:gd name="textAreaLeft" fmla="*/ 0 w 287280"/>
              <a:gd name="textAreaRight" fmla="*/ 103680 w 287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0000" y="4508640"/>
            <a:ext cx="360360" cy="144144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3068640"/>
            <a:ext cx="920520" cy="66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Zigb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64000" y="26028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enguiatGot Bk BT"/>
              </a:rPr>
              <a:t>Open-Zigb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5640" y="1052640"/>
            <a:ext cx="7834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enguiatGot Bk BT"/>
              </a:rPr>
              <a:t>Implementación en plataformas de 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79480" y="4076640"/>
            <a:ext cx="8264520" cy="209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755640" y="1052640"/>
            <a:ext cx="7834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enguiatGot Bk BT"/>
              </a:rPr>
              <a:t>Implementación en plataformas de 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92360" y="2781360"/>
            <a:ext cx="58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pen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-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b.net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bout_toolset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1908000" y="1916280"/>
            <a:ext cx="5486400" cy="838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364000" y="26028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enguiatGot Bk BT"/>
              </a:rPr>
              <a:t>Open-Zigb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26920" y="3500280"/>
            <a:ext cx="763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udio de solución open-zigbee y simi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lución Open source vs Propie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uebas entre sistema Zigbee compatible y dispositivo usando open-zigbe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cesamiento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458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03640" y="2349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32720" y="177336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00720" y="436572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23080" y="4941720"/>
            <a:ext cx="22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uceso (Da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22000" y="5661000"/>
            <a:ext cx="222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roces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11280" y="5300640"/>
            <a:ext cx="289080" cy="360360"/>
          </a:xfrm>
          <a:prstGeom prst="downArrow">
            <a:avLst>
              <a:gd name="adj1" fmla="val 49454"/>
              <a:gd name="adj2" fmla="val 44478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627280" y="2781360"/>
            <a:ext cx="649440" cy="172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3635280" y="263700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278136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342900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219280" y="2060640"/>
            <a:ext cx="151308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5219640" y="306828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771640" y="4508640"/>
            <a:ext cx="165600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2028200">
            <a:off x="2699640" y="3141720"/>
            <a:ext cx="222120" cy="720720"/>
          </a:xfrm>
          <a:prstGeom prst="downArrow">
            <a:avLst>
              <a:gd name="adj1" fmla="val 50833"/>
              <a:gd name="adj2" fmla="val 91438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7262000">
            <a:off x="4244400" y="2242800"/>
            <a:ext cx="222480" cy="720720"/>
          </a:xfrm>
          <a:prstGeom prst="downArrow">
            <a:avLst>
              <a:gd name="adj1" fmla="val 50833"/>
              <a:gd name="adj2" fmla="val 9129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4615400">
            <a:off x="5684400" y="1955160"/>
            <a:ext cx="222120" cy="720720"/>
          </a:xfrm>
          <a:prstGeom prst="downArrow">
            <a:avLst>
              <a:gd name="adj1" fmla="val 50833"/>
              <a:gd name="adj2" fmla="val 91438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7262000">
            <a:off x="5973480" y="2747520"/>
            <a:ext cx="222120" cy="720720"/>
          </a:xfrm>
          <a:prstGeom prst="downArrow">
            <a:avLst>
              <a:gd name="adj1" fmla="val 50833"/>
              <a:gd name="adj2" fmla="val 91438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5709200">
            <a:off x="3597120" y="4042800"/>
            <a:ext cx="222120" cy="720720"/>
          </a:xfrm>
          <a:prstGeom prst="downArrow">
            <a:avLst>
              <a:gd name="adj1" fmla="val 50833"/>
              <a:gd name="adj2" fmla="val 91438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170028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2050920" y="1916280"/>
            <a:ext cx="115272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6908400">
            <a:off x="2589120" y="1666800"/>
            <a:ext cx="222120" cy="720720"/>
          </a:xfrm>
          <a:prstGeom prst="downArrow">
            <a:avLst>
              <a:gd name="adj1" fmla="val 50833"/>
              <a:gd name="adj2" fmla="val 91438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13440" y="5229360"/>
            <a:ext cx="1079640" cy="863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15080" y="4797360"/>
            <a:ext cx="13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72360" y="522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32720" y="522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12000" y="551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58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24000" y="4221000"/>
            <a:ext cx="216000" cy="216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35280" y="1341360"/>
            <a:ext cx="215640" cy="216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2349360"/>
            <a:ext cx="216000" cy="216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59640" y="1413000"/>
            <a:ext cx="216000" cy="215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04000" y="3068640"/>
            <a:ext cx="216000" cy="216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3280" y="4076640"/>
            <a:ext cx="216000" cy="216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8000" y="1989000"/>
            <a:ext cx="216000" cy="216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06000" y="4508640"/>
            <a:ext cx="15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+A+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42720" y="4724280"/>
            <a:ext cx="15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+A+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06000" y="2852640"/>
            <a:ext cx="15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+A+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301640" y="3213000"/>
            <a:ext cx="15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+A+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46360" y="3789360"/>
            <a:ext cx="15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+A+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17640" y="2205000"/>
            <a:ext cx="15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+A+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34360" y="2060640"/>
            <a:ext cx="152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+A+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udio del arte sobre el procesamiento distribu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foque en las redes inalámbricos de sen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udio de soluciones ac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l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amiento Distrib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474920" y="2852640"/>
            <a:ext cx="4038480" cy="28353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2214720" cy="1755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ción de nuevas fuentes energ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83440" y="2444760"/>
            <a:ext cx="19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anel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26000" y="3716280"/>
            <a:ext cx="15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DC-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udiar soluciones actuales (paneles solares, eólicas, cinéticas, etc –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ower.ti.com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luciones para ocupar energías residuales en sistemas de alta pot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de convertidores DC/DC para optimizar uso de energía en sistemas de bajo consu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ción de nuevas fuentes energ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cionamiento Rel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4305600" cy="4319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862000" y="1413000"/>
            <a:ext cx="35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C2431 Location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o del arte sobre el posicionamiento rel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udio de soluciones act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ementación de alguna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427280" y="188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cionamiento Rel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entarios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y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604360" y="630864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7301"/>
                </a:moveTo>
                <a:lnTo>
                  <a:pt x="4761" y="7301"/>
                </a:lnTo>
                <a:lnTo>
                  <a:pt x="5144" y="7667"/>
                </a:lnTo>
                <a:lnTo>
                  <a:pt x="14353" y="7667"/>
                </a:lnTo>
                <a:lnTo>
                  <a:pt x="14910" y="8224"/>
                </a:lnTo>
                <a:lnTo>
                  <a:pt x="14910" y="8772"/>
                </a:lnTo>
                <a:lnTo>
                  <a:pt x="16755" y="8772"/>
                </a:lnTo>
                <a:lnTo>
                  <a:pt x="17121" y="8224"/>
                </a:lnTo>
                <a:lnTo>
                  <a:pt x="17861" y="8224"/>
                </a:lnTo>
                <a:lnTo>
                  <a:pt x="17861" y="13376"/>
                </a:lnTo>
                <a:lnTo>
                  <a:pt x="17121" y="13376"/>
                </a:lnTo>
                <a:lnTo>
                  <a:pt x="16755" y="12828"/>
                </a:lnTo>
                <a:lnTo>
                  <a:pt x="14910" y="12828"/>
                </a:lnTo>
                <a:lnTo>
                  <a:pt x="14910" y="14107"/>
                </a:lnTo>
                <a:lnTo>
                  <a:pt x="5327" y="14107"/>
                </a:lnTo>
                <a:lnTo>
                  <a:pt x="5327" y="9877"/>
                </a:lnTo>
                <a:lnTo>
                  <a:pt x="5144" y="9877"/>
                </a:lnTo>
                <a:lnTo>
                  <a:pt x="4761" y="10243"/>
                </a:lnTo>
                <a:lnTo>
                  <a:pt x="3848" y="10243"/>
                </a:lnTo>
                <a:close/>
              </a:path>
            </a:pathLst>
          </a:custGeom>
          <a:solidFill>
            <a:srgbClr val="ff99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79480" y="4076640"/>
            <a:ext cx="826452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900000" y="1268280"/>
          <a:ext cx="7848720" cy="467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1268280"/>
                    <a:ext cx="784872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79480" y="4076640"/>
            <a:ext cx="8264520" cy="2097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27640" y="1052640"/>
            <a:ext cx="453708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79480" y="4076640"/>
            <a:ext cx="8264520" cy="2097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356000" y="1052640"/>
            <a:ext cx="4788000" cy="28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87280" y="981000"/>
            <a:ext cx="6767640" cy="538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49560" y="0"/>
            <a:ext cx="5194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BenguiatGot Bk BT"/>
              </a:rPr>
              <a:t>Tem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1484280"/>
            <a:ext cx="722016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edes de sensores inalámbricas (W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¿Qué s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Desafí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Nodo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WiseConn y sus s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emas de 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26920" y="1197000"/>
            <a:ext cx="7632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chos dispositivos autónomos, distribuidos geográficamente, llamado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dos sensor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alados alrededor de un objeto para monitorizarlo, con capacidad de cómputo (realizar mediciones), almacenamiento y comunicación en una red conectada sin c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uesta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oman del medio la información  y la convierten en señales eléct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oman los datos del sensor a través de sus puertas dedatos, y envían la información a la estación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tewa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ación base, que puede permitir  la interconexión entre la red de sensores y un computador, u otra red de datos (TCP/I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d Inalámbr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ípicamente basada en el estándar 802.15.4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973680" y="-360"/>
            <a:ext cx="517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BenguiatGot Bk BT"/>
              </a:rPr>
              <a:t>¿ Qué son las WS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4427640" y="1628640"/>
            <a:ext cx="4481280" cy="3907080"/>
            <a:chOff x="4427640" y="1628640"/>
            <a:chExt cx="4481280" cy="390708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27640" y="1628640"/>
              <a:ext cx="4481280" cy="39070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81" name=""/>
            <p:cNvSpPr/>
            <p:nvPr/>
          </p:nvSpPr>
          <p:spPr>
            <a:xfrm>
              <a:off x="6304320" y="1829520"/>
              <a:ext cx="2006640" cy="60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4625640"/>
            <a:ext cx="4032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ado para sensores y aplicaciones industr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basa en estándar IEEE 802.15.4.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ficaciones públicas el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sta 200 m de alc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33920" y="4626000"/>
            <a:ext cx="38988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sta 65.000 n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,4 GHz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915 y 868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sta 250 kbps y 16 ca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ologías Mesh, Cluster tree, Struc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70160" y="1557360"/>
            <a:ext cx="6838560" cy="2838600"/>
            <a:chOff x="470160" y="1557360"/>
            <a:chExt cx="6838560" cy="2838600"/>
          </a:xfrm>
        </p:grpSpPr>
        <p:sp>
          <p:nvSpPr>
            <p:cNvPr id="85" name=""/>
            <p:cNvSpPr/>
            <p:nvPr/>
          </p:nvSpPr>
          <p:spPr>
            <a:xfrm rot="5400000">
              <a:off x="3077640" y="2547720"/>
              <a:ext cx="324000" cy="1800360"/>
            </a:xfrm>
            <a:custGeom>
              <a:avLst/>
              <a:gdLst>
                <a:gd name="textAreaLeft" fmla="*/ 15480 w 324000"/>
                <a:gd name="textAreaRight" fmla="*/ 308520 w 324000"/>
                <a:gd name="textAreaTop" fmla="*/ 15480 h 1800360"/>
                <a:gd name="textAreaBottom" fmla="*/ 1784880 h 1800360"/>
              </a:gdLst>
              <a:ahLst/>
              <a:rect l="textAreaLeft" t="textAreaTop" r="textAreaRight" b="textAreaBottom"/>
              <a:pathLst>
                <a:path w="21600" h="119915">
                  <a:moveTo>
                    <a:pt x="3600" y="0"/>
                  </a:moveTo>
                  <a:arcTo wR="3600" hR="3600" stAng="16200000" swAng="-5400000"/>
                  <a:lnTo>
                    <a:pt x="0" y="116315"/>
                  </a:lnTo>
                  <a:arcTo wR="3600" hR="3600" stAng="10800000" swAng="-5400000"/>
                  <a:lnTo>
                    <a:pt x="18000" y="1199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70160" y="1557360"/>
              <a:ext cx="6838560" cy="2838600"/>
              <a:chOff x="470160" y="1557360"/>
              <a:chExt cx="6838560" cy="2838600"/>
            </a:xfrm>
          </p:grpSpPr>
          <p:sp>
            <p:nvSpPr>
              <p:cNvPr id="87" name=""/>
              <p:cNvSpPr/>
              <p:nvPr/>
            </p:nvSpPr>
            <p:spPr>
              <a:xfrm>
                <a:off x="1116000" y="2494080"/>
                <a:ext cx="0" cy="165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116000" y="4149720"/>
                <a:ext cx="619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58920" y="2494080"/>
                <a:ext cx="576360" cy="1511280"/>
              </a:xfrm>
              <a:custGeom>
                <a:avLst/>
                <a:gdLst>
                  <a:gd name="textAreaLeft" fmla="*/ 28080 w 576360"/>
                  <a:gd name="textAreaRight" fmla="*/ 548280 w 576360"/>
                  <a:gd name="textAreaTop" fmla="*/ 28080 h 1511280"/>
                  <a:gd name="textAreaBottom" fmla="*/ 1483200 h 1511280"/>
                </a:gdLst>
                <a:ahLst/>
                <a:rect l="textAreaLeft" t="textAreaTop" r="textAreaRight" b="textAreaBottom"/>
                <a:pathLst>
                  <a:path w="21600" h="56616">
                    <a:moveTo>
                      <a:pt x="3600" y="0"/>
                    </a:moveTo>
                    <a:arcTo wR="3600" hR="3600" stAng="16200000" swAng="-5400000"/>
                    <a:lnTo>
                      <a:pt x="0" y="53016"/>
                    </a:lnTo>
                    <a:arcTo wR="3600" hR="3600" stAng="10800000" swAng="-5400000"/>
                    <a:lnTo>
                      <a:pt x="18000" y="56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00">
                  <a:alpha val="6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5400000">
                <a:off x="2717640" y="2977920"/>
                <a:ext cx="323640" cy="1657440"/>
              </a:xfrm>
              <a:custGeom>
                <a:avLst/>
                <a:gdLst>
                  <a:gd name="textAreaLeft" fmla="*/ 15480 w 323640"/>
                  <a:gd name="textAreaRight" fmla="*/ 308160 w 323640"/>
                  <a:gd name="textAreaTop" fmla="*/ 15480 h 1657440"/>
                  <a:gd name="textAreaBottom" fmla="*/ 1641960 h 1657440"/>
                </a:gdLst>
                <a:ahLst/>
                <a:rect l="textAreaLeft" t="textAreaTop" r="textAreaRight" b="textAreaBottom"/>
                <a:pathLst>
                  <a:path w="21600" h="110520">
                    <a:moveTo>
                      <a:pt x="3600" y="0"/>
                    </a:moveTo>
                    <a:arcTo wR="3600" hR="3600" stAng="16200000" swAng="-5400000"/>
                    <a:lnTo>
                      <a:pt x="0" y="106920"/>
                    </a:lnTo>
                    <a:arcTo wR="3600" hR="3600" stAng="10800000" swAng="-5400000"/>
                    <a:lnTo>
                      <a:pt x="18000" y="11052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5400000">
                <a:off x="4373280" y="1898640"/>
                <a:ext cx="323640" cy="2089080"/>
              </a:xfrm>
              <a:custGeom>
                <a:avLst/>
                <a:gdLst>
                  <a:gd name="textAreaLeft" fmla="*/ 15480 w 323640"/>
                  <a:gd name="textAreaRight" fmla="*/ 308160 w 323640"/>
                  <a:gd name="textAreaTop" fmla="*/ 15480 h 2089080"/>
                  <a:gd name="textAreaBottom" fmla="*/ 2073600 h 2089080"/>
                </a:gdLst>
                <a:ahLst/>
                <a:rect l="textAreaLeft" t="textAreaTop" r="textAreaRight" b="textAreaBottom"/>
                <a:pathLst>
                  <a:path w="21600" h="139296">
                    <a:moveTo>
                      <a:pt x="3600" y="0"/>
                    </a:moveTo>
                    <a:arcTo wR="3600" hR="3600" stAng="16200000" swAng="-5400000"/>
                    <a:lnTo>
                      <a:pt x="0" y="135696"/>
                    </a:lnTo>
                    <a:arcTo wR="3600" hR="3600" stAng="10800000" swAng="-5400000"/>
                    <a:lnTo>
                      <a:pt x="18000" y="1392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a5a5a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5400000">
                <a:off x="4049640" y="1574640"/>
                <a:ext cx="323640" cy="2016000"/>
              </a:xfrm>
              <a:custGeom>
                <a:avLst/>
                <a:gdLst>
                  <a:gd name="textAreaLeft" fmla="*/ 15480 w 323640"/>
                  <a:gd name="textAreaRight" fmla="*/ 308160 w 323640"/>
                  <a:gd name="textAreaTop" fmla="*/ 15480 h 2016000"/>
                  <a:gd name="textAreaBottom" fmla="*/ 2000520 h 2016000"/>
                </a:gdLst>
                <a:ahLst/>
                <a:rect l="textAreaLeft" t="textAreaTop" r="textAreaRight" b="textAreaBottom"/>
                <a:pathLst>
                  <a:path w="21600" h="134424">
                    <a:moveTo>
                      <a:pt x="3600" y="0"/>
                    </a:moveTo>
                    <a:arcTo wR="3600" hR="3600" stAng="16200000" swAng="-5400000"/>
                    <a:lnTo>
                      <a:pt x="0" y="130824"/>
                    </a:lnTo>
                    <a:arcTo wR="3600" hR="3600" stAng="10800000" swAng="-5400000"/>
                    <a:lnTo>
                      <a:pt x="18000" y="13442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a5a5a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400000">
                <a:off x="5274000" y="62640"/>
                <a:ext cx="324000" cy="3313080"/>
              </a:xfrm>
              <a:custGeom>
                <a:avLst/>
                <a:gdLst>
                  <a:gd name="textAreaLeft" fmla="*/ 15480 w 324000"/>
                  <a:gd name="textAreaRight" fmla="*/ 308520 w 324000"/>
                  <a:gd name="textAreaTop" fmla="*/ 15480 h 3313080"/>
                  <a:gd name="textAreaBottom" fmla="*/ 3297600 h 3313080"/>
                </a:gdLst>
                <a:ahLst/>
                <a:rect l="textAreaLeft" t="textAreaTop" r="textAreaRight" b="textAreaBottom"/>
                <a:pathLst>
                  <a:path w="21600" h="220651">
                    <a:moveTo>
                      <a:pt x="3600" y="0"/>
                    </a:moveTo>
                    <a:arcTo wR="3600" hR="3600" stAng="16200000" swAng="-5400000"/>
                    <a:lnTo>
                      <a:pt x="0" y="217051"/>
                    </a:lnTo>
                    <a:arcTo wR="3600" hR="3600" stAng="10800000" swAng="-5400000"/>
                    <a:lnTo>
                      <a:pt x="18000" y="2206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2c2c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6000" y="155736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6000" y="184644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77800" y="1557360"/>
                <a:ext cx="72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WiMa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79280" y="2421000"/>
                <a:ext cx="82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802.11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74960" y="2781360"/>
                <a:ext cx="162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802.11a / 802.11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09840" y="3645000"/>
                <a:ext cx="108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luetooth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25840" y="3286080"/>
                <a:ext cx="108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luetooth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03280" y="2563200"/>
                <a:ext cx="2872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ZigBe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0520" y="1630440"/>
                <a:ext cx="54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50 K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0160" y="2349360"/>
                <a:ext cx="53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200 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0160" y="343044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50 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89800" y="41497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250 Kb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2520" y="4149720"/>
                <a:ext cx="59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2 Mb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18160" y="4149720"/>
                <a:ext cx="665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70 Mb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3949560" y="0"/>
            <a:ext cx="5194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BenguiatGot Bk BT"/>
              </a:rPr>
              <a:t>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83237E-006 L -0.45625 -0.39168 E">
                                      <p:cBhvr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sar</cp:lastModifiedBy>
  <dcterms:modified xsi:type="dcterms:W3CDTF">2007-04-19T15:14:11Z</dcterms:modified>
  <cp:revision>58</cp:revision>
  <dc:subject/>
  <dc:title>Diapositiva 1</dc:title>
</cp:coreProperties>
</file>