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SD2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4 - Key Point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earch tim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 search -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dition is 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Recursive Data Structur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-trees are themselves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earched recursively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earch time proportional to height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52480" y="4191120"/>
            <a:ext cx="4419720" cy="761760"/>
          </a:xfrm>
          <a:prstGeom prst="rect">
            <a:avLst/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2209680"/>
            <a:ext cx="1752840" cy="1447920"/>
          </a:xfrm>
          <a:prstGeom prst="rect">
            <a:avLst/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10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ey Point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1000"/>
          </a:bodyPr>
          <a:p>
            <a:pPr marL="140400" indent="-14040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e Sorting Repertoi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nsertion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304560" indent="-1170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ubble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304560" indent="-1170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Heap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)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304560" indent="-1170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Quick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)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st of the time!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304560" indent="-1170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in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)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s in small range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+m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304560" indent="-1170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Radix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)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unded keys/duplicates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140400" indent="-14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 and Radix 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istinguished by ability to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476280" indent="-93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 the key to a small integer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3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an address from the 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mpare only capability   -&gt;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 log n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lvl="1" marL="304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1600200"/>
            <a:ext cx="1752840" cy="703800"/>
          </a:xfrm>
          <a:prstGeom prst="rect">
            <a:avLst/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o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10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ey Point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adix So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ny suitable radix can be used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ifferent bases can be used in each phas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emory management must be efficient to achieve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13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ey Point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2000"/>
          </a:bodyPr>
          <a:p>
            <a:pPr marL="144000" indent="-144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way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8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ajor use: databas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311760" indent="-119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adjusted so that a node fits in a physical disc block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311760" indent="-1198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earching - O( log n 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44000" indent="-144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-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8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-way tree in which each node is at least half-full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44000" indent="-144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+-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8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No data in nodes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311760" indent="-1198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eaf nodes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487800" indent="-95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 pointers to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87800" indent="-95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ed together to enable fast in-order traversal of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8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plit full nodes, promote a key if necessary                            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13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ey Point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h T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f we can derive an address from a key directly 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755280" indent="-148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arc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755280" indent="-148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range - table has to fit in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55280" indent="-148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s dense in range - otherwise too much space was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55280" indent="-148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plic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5200" indent="-148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worst ca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Key Point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Lecture 14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h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1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searching complexity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ddress calculated directly from key with hash func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llision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able Organisa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ed l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flow are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-has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a second hash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ceptible to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Key Point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Lecture 14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h 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ssume we can construct a function to map keys to a range of integer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ethods for reducing this range to (0,m]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 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us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y by A and extract p middle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p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al Has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tions!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967280" y="4495680"/>
            <a:ext cx="1890720" cy="609840"/>
          </a:xfrm>
          <a:custGeom>
            <a:avLst/>
            <a:gdLst>
              <a:gd name="textAreaLeft" fmla="*/ 295200 w 1890720"/>
              <a:gd name="textAreaRight" fmla="*/ 1669320 w 1890720"/>
              <a:gd name="textAreaTop" fmla="*/ 156960 h 609840"/>
              <a:gd name="textAreaBottom" fmla="*/ 45288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568"/>
                </a:moveTo>
                <a:lnTo>
                  <a:pt x="16376" y="5568"/>
                </a:lnTo>
                <a:lnTo>
                  <a:pt x="16376" y="0"/>
                </a:lnTo>
                <a:lnTo>
                  <a:pt x="21600" y="10800"/>
                </a:lnTo>
                <a:lnTo>
                  <a:pt x="16376" y="21600"/>
                </a:lnTo>
                <a:lnTo>
                  <a:pt x="16376" y="16032"/>
                </a:lnTo>
                <a:lnTo>
                  <a:pt x="3375" y="16032"/>
                </a:lnTo>
                <a:close/>
              </a:path>
              <a:path w="21600" h="21600">
                <a:moveTo>
                  <a:pt x="0" y="5568"/>
                </a:moveTo>
                <a:lnTo>
                  <a:pt x="675" y="5568"/>
                </a:lnTo>
                <a:lnTo>
                  <a:pt x="675" y="16032"/>
                </a:lnTo>
                <a:lnTo>
                  <a:pt x="0" y="16032"/>
                </a:lnTo>
                <a:close/>
              </a:path>
              <a:path w="21600" h="21600">
                <a:moveTo>
                  <a:pt x="1350" y="5568"/>
                </a:moveTo>
                <a:lnTo>
                  <a:pt x="2700" y="5568"/>
                </a:lnTo>
                <a:lnTo>
                  <a:pt x="2700" y="16032"/>
                </a:lnTo>
                <a:lnTo>
                  <a:pt x="1350" y="16032"/>
                </a:lnTo>
                <a:close/>
              </a:path>
            </a:pathLst>
          </a:custGeom>
          <a:solidFill>
            <a:srgbClr val="99ff99"/>
          </a:solidFill>
          <a:ln w="1260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s 1 &amp; 2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Structures and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he key to your professional reputa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 much more dramatic effect can be made on the performance of a program by changing to a better algorithm than by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c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ting to assemb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uy a text for long-term reference!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ofessional software engine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lgorithms text(s) on their shel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ack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user manuals for the latest software packa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they’ll have to throw away next year anywa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2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algorithms operate on data collections, so def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on Abstract Data Type (AD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ethod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or / De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/ De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 (lat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2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pecify maximum size in Constructo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locate array with sufficient spac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ake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nstant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tim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ependent of current size of col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inear search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st case time:   n x const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time:    n/2 x consta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(if the key is always found!)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x constant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(depending on probability of             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finding the k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orst case analysis prefer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easier and more relevant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earching 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inary search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t the data into ascending (or descending) or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the middle i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desired key is less, go lef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match, finished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desired key is greater, go r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divid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half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binary search takes time =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 lo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“big Oh”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O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038480"/>
            <a:ext cx="7391520" cy="228600"/>
          </a:xfrm>
          <a:prstGeom prst="rect">
            <a:avLst/>
          </a:prstGeom>
          <a:noFill/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4038480"/>
            <a:ext cx="380880" cy="228600"/>
          </a:xfrm>
          <a:prstGeom prst="rect">
            <a:avLst/>
          </a:prstGeom>
          <a:noFill/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37339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3600" y="347040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171320" y="4191120"/>
            <a:ext cx="322920" cy="627480"/>
            <a:chOff x="4171320" y="4191120"/>
            <a:chExt cx="322920" cy="627480"/>
          </a:xfrm>
        </p:grpSpPr>
        <p:sp>
          <p:nvSpPr>
            <p:cNvPr id="53" name=""/>
            <p:cNvSpPr/>
            <p:nvPr/>
          </p:nvSpPr>
          <p:spPr>
            <a:xfrm>
              <a:off x="4171680" y="4191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46560" y="45115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71320" y="4419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201480" y="47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4419720"/>
            <a:ext cx="1371600" cy="380880"/>
          </a:xfrm>
          <a:custGeom>
            <a:avLst/>
            <a:gdLst/>
            <a:ahLst/>
            <a:rect l="l" t="t" r="r" b="b"/>
            <a:pathLst>
              <a:path w="1200" h="240">
                <a:moveTo>
                  <a:pt x="1200" y="0"/>
                </a:moveTo>
                <a:cubicBezTo>
                  <a:pt x="892" y="120"/>
                  <a:pt x="584" y="240"/>
                  <a:pt x="384" y="240"/>
                </a:cubicBezTo>
                <a:cubicBezTo>
                  <a:pt x="184" y="240"/>
                  <a:pt x="92" y="120"/>
                  <a:pt x="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4495680"/>
            <a:ext cx="533160" cy="457200"/>
          </a:xfrm>
          <a:custGeom>
            <a:avLst/>
            <a:gdLst/>
            <a:ahLst/>
            <a:rect l="l" t="t" r="r" b="b"/>
            <a:pathLst>
              <a:path w="1200" h="240">
                <a:moveTo>
                  <a:pt x="1200" y="0"/>
                </a:moveTo>
                <a:cubicBezTo>
                  <a:pt x="892" y="120"/>
                  <a:pt x="584" y="240"/>
                  <a:pt x="384" y="240"/>
                </a:cubicBezTo>
                <a:cubicBezTo>
                  <a:pt x="184" y="240"/>
                  <a:pt x="92" y="120"/>
                  <a:pt x="0" y="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4038480"/>
            <a:ext cx="381240" cy="228600"/>
          </a:xfrm>
          <a:prstGeom prst="rect">
            <a:avLst/>
          </a:prstGeom>
          <a:noFill/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4038480"/>
            <a:ext cx="380880" cy="228600"/>
          </a:xfrm>
          <a:prstGeom prst="rect">
            <a:avLst/>
          </a:prstGeom>
          <a:noFill/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495160" y="4191120"/>
            <a:ext cx="322920" cy="627480"/>
            <a:chOff x="2495160" y="4191120"/>
            <a:chExt cx="322920" cy="627480"/>
          </a:xfrm>
        </p:grpSpPr>
        <p:sp>
          <p:nvSpPr>
            <p:cNvPr id="62" name=""/>
            <p:cNvSpPr/>
            <p:nvPr/>
          </p:nvSpPr>
          <p:spPr>
            <a:xfrm>
              <a:off x="2495520" y="4191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70400" y="45115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95160" y="4419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601280" y="4191120"/>
            <a:ext cx="322920" cy="627480"/>
            <a:chOff x="1601280" y="4191120"/>
            <a:chExt cx="322920" cy="627480"/>
          </a:xfrm>
        </p:grpSpPr>
        <p:sp>
          <p:nvSpPr>
            <p:cNvPr id="66" name=""/>
            <p:cNvSpPr/>
            <p:nvPr/>
          </p:nvSpPr>
          <p:spPr>
            <a:xfrm>
              <a:off x="1601640" y="4191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76520" y="45115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01280" y="4419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Binary Search vs Sequential Search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equential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st case time: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inary search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st case time: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209680" y="2819520"/>
          <a:ext cx="6248520" cy="408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819520"/>
                    <a:ext cx="624852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50840" y="3809880"/>
            <a:ext cx="1548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re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ested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4648320"/>
            <a:ext cx="1600200" cy="10666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38520" y="4419720"/>
            <a:ext cx="160128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is gap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4038480"/>
            <a:ext cx="0" cy="106704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4572000"/>
            <a:ext cx="685800" cy="0"/>
          </a:xfrm>
          <a:prstGeom prst="line">
            <a:avLst/>
          </a:prstGeom>
          <a:ln w="38160">
            <a:solidFill>
              <a:srgbClr val="063de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4038480"/>
            <a:ext cx="304920" cy="673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5410080"/>
            <a:ext cx="1143000" cy="4406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lo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440" y="5638680"/>
            <a:ext cx="253404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ary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 constant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Binary Search vs Sequential Search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equential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st case time: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inary search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st case time: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0" y="2776680"/>
          <a:ext cx="6248520" cy="408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776680"/>
                    <a:ext cx="624852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707160" y="533520"/>
            <a:ext cx="2149560" cy="204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2 is by f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st com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is cou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 bas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ess otherw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d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0840" y="3809880"/>
            <a:ext cx="1548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re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ested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4648320"/>
            <a:ext cx="1523880" cy="9903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8520" y="4419720"/>
            <a:ext cx="160128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is gap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4114800"/>
            <a:ext cx="0" cy="106668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4572000"/>
            <a:ext cx="685800" cy="0"/>
          </a:xfrm>
          <a:prstGeom prst="line">
            <a:avLst/>
          </a:prstGeom>
          <a:ln w="38160">
            <a:solidFill>
              <a:srgbClr val="063de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4038480"/>
            <a:ext cx="304920" cy="673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5410080"/>
            <a:ext cx="1143000" cy="4406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lo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440" y="5764320"/>
            <a:ext cx="253404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ary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 constant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3 - Key Point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ed L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ynamic allocation gives flexibility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Use as much or as little space as needed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ddition - constant tim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earching - proportional to 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eletion - proportional to 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ant in doubly linked if given n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Variant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FO (simple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O (add tail poin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y link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 in either dir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ularly link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 entire list from any 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4 - Key Point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Just a collection with LIFO semantic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dd, Delete usually nam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p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u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tack frame to stor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unction contex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ermits recursive call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asis for some simple, elegant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d efficient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olution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but,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sometimes too simpl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onacci - elegant but not effici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xplanation to come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6T03:36:12Z</dcterms:created>
  <dc:creator>jm</dc:creator>
  <dc:description/>
  <dc:language>en-US</dc:language>
  <cp:lastModifiedBy>jm</cp:lastModifiedBy>
  <cp:lastPrinted>1998-03-09T14:58:04Z</cp:lastPrinted>
  <dcterms:modified xsi:type="dcterms:W3CDTF">1999-07-13T03:44:40Z</dcterms:modified>
  <cp:revision>6</cp:revision>
  <dc:subject/>
  <dc:title>Data Structures and Algorithms</dc:title>
</cp:coreProperties>
</file>