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ffman Encoding and Deco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huffop5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272124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huffop6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24732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6480" y="266688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two tr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cod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huff_dec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95" name="huff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530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Time Complexity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rt ke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m new sub-tree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ove sub-tree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(binary search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ypically, in files and messages,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requires 1 byte or 8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ready wasting 1 bit for most purpose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at’s the smallest number of bits that can be used to store an arbitrary piece of text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d the frequency of occurrence of each charact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code Frequent character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hort bit str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arer character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onger bit str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code by following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ree to leaf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g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 is   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  is   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requent characters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, 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 bit encod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thers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A, S, N, O    3 bit encod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4" name="huff" descr=""/>
          <p:cNvPicPr/>
          <p:nvPr/>
        </p:nvPicPr>
        <p:blipFill>
          <a:blip r:embed="rId1"/>
          <a:stretch/>
        </p:blipFill>
        <p:spPr>
          <a:xfrm>
            <a:off x="4462560" y="914400"/>
            <a:ext cx="3843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59840" indent="-15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61320" indent="-12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in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direct-addressed lookup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able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601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the optimal 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mallest number of bits to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resent arbitrary tex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6760" y="70812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70812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6760" y="203184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97640" y="203184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6760" y="114300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6760" y="158112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6760" y="243828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6760" y="288936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6760" y="335592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760" y="382284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6760" y="428940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97640" y="288936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7640" y="382284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97640" y="428940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51200" indent="-151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920" indent="-1512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ide on a root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ho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03920" indent="-1512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ide on roots for sub-trees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ho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03920" indent="-1512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e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im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25680" indent="-120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1200" indent="-151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dy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920" indent="-1512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characters by frequenc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03920" indent="-1512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m two lowest weight nodes into a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25680" indent="-120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-tree weight = sum of weights of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3920" indent="-1512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ove new tree to correct pl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huffop1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4876560" cy="1235160"/>
          </a:xfrm>
          <a:prstGeom prst="rect">
            <a:avLst/>
          </a:prstGeom>
          <a:ln w="0">
            <a:noFill/>
          </a:ln>
        </p:spPr>
      </p:pic>
      <p:pic>
        <p:nvPicPr>
          <p:cNvPr id="66" name="huffop2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2440" y="13716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ed by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1720" y="2971800"/>
            <a:ext cx="264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lowest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sub-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it to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huffop3" descr=""/>
          <p:cNvPicPr/>
          <p:nvPr/>
        </p:nvPicPr>
        <p:blipFill>
          <a:blip r:embed="rId1"/>
          <a:stretch/>
        </p:blipFill>
        <p:spPr>
          <a:xfrm>
            <a:off x="3957480" y="2744640"/>
            <a:ext cx="3662640" cy="2522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8160" y="129528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shifting sub-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ts correct plac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7320" y="3505320"/>
            <a:ext cx="272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next 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sub-tre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huffop2a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35053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huffop4" descr=""/>
          <p:cNvPicPr/>
          <p:nvPr/>
        </p:nvPicPr>
        <p:blipFill>
          <a:blip r:embed="rId1"/>
          <a:stretch/>
        </p:blipFill>
        <p:spPr>
          <a:xfrm>
            <a:off x="4357800" y="2655720"/>
            <a:ext cx="2805120" cy="2678400"/>
          </a:xfrm>
          <a:prstGeom prst="rect">
            <a:avLst/>
          </a:prstGeom>
          <a:ln w="0">
            <a:noFill/>
          </a:ln>
        </p:spPr>
      </p:pic>
      <p:pic>
        <p:nvPicPr>
          <p:cNvPr id="76" name="huffop3" descr=""/>
          <p:cNvPicPr/>
          <p:nvPr/>
        </p:nvPicPr>
        <p:blipFill>
          <a:blip r:embed="rId2"/>
          <a:stretch/>
        </p:blipFill>
        <p:spPr>
          <a:xfrm>
            <a:off x="3957480" y="609480"/>
            <a:ext cx="320544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8880" y="1295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he new 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orrect plac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4440" y="3505320"/>
            <a:ext cx="344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lowest two a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” sub-tree and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and mov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ffop4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2805120" cy="2678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11920" y="91440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he new 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orrect plac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0600" y="3657600"/>
            <a:ext cx="344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lowest two a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25” and “30”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and mov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huffop5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2720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9-13T15:52:06Z</cp:lastPrinted>
  <dcterms:modified xsi:type="dcterms:W3CDTF">1999-10-04T05:03:26Z</dcterms:modified>
  <cp:revision>22</cp:revision>
  <dc:subject/>
  <dc:title>PLSD210(ii)</dc:title>
</cp:coreProperties>
</file>