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ugment polynomials - add</a:t>
            </a:r>
            <a:r>
              <a:rPr b="1" lang="en-US" sz="2000" spc="-1" strike="noStrike" baseline="30000">
                <a:solidFill>
                  <a:srgbClr val="063de8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aluat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point-value rep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pplying F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at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ot of 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oint-wise multip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erpolat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coefficient representatio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pplication of F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22120" y="114300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1760" y="198108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22120" y="312408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21760" y="3886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1760" y="45720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495680"/>
            <a:ext cx="137160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-154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onversion to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B require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end A, B with addition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440" y="353520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9840" y="548640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ourier Transfor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(  a,  n  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( n == 1 ) then return 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/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k = 0 to n/2 -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n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turn 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78960" y="2819520"/>
            <a:ext cx="313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into two ha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760" y="3581280"/>
            <a:ext cx="4112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 transform of each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2800" y="4648320"/>
            <a:ext cx="148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ourier Transfor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(  a,  n  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( n == 1 ) then return 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/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k = 0 to n/2 -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n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turn 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2480" y="2895480"/>
            <a:ext cx="26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into two ha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1800" y="3476520"/>
            <a:ext cx="2047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 transfor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ach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4572000"/>
            <a:ext cx="1269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3320" y="4648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525680"/>
            <a:ext cx="21333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u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1920" y="5181480"/>
            <a:ext cx="208008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ourier Transfor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(  a,  n  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( n == 1 ) then return 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/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FT(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/2 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k = 0 to n/2 -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n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turn y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2480" y="2895480"/>
            <a:ext cx="26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into two ha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1800" y="3476520"/>
            <a:ext cx="2047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 transfor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ach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1680" y="4572000"/>
            <a:ext cx="1269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3320" y="4648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5680"/>
            <a:ext cx="21333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u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1920" y="5181480"/>
            <a:ext cx="208008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1760" y="1066680"/>
            <a:ext cx="5238360" cy="1431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x) (in coefficient form ..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k = 0,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2160" y="2932200"/>
            <a:ext cx="4216320" cy="2130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from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efficient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int-value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ly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ourier Transfor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ots of un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/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k/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lation 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d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dk/d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k/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articula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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1    ( n even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two polynom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generate a produc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ach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efficients of the product is a sum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efficient produc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do any bet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738880" y="1066680"/>
            <a:ext cx="1826280" cy="992880"/>
            <a:chOff x="2738880" y="1066680"/>
            <a:chExt cx="1826280" cy="992880"/>
          </a:xfrm>
        </p:grpSpPr>
        <p:sp>
          <p:nvSpPr>
            <p:cNvPr id="43" name=""/>
            <p:cNvSpPr/>
            <p:nvPr/>
          </p:nvSpPr>
          <p:spPr>
            <a:xfrm>
              <a:off x="2738880" y="1271520"/>
              <a:ext cx="18262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7440" y="166068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4120" y="106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38880" y="2133720"/>
            <a:ext cx="1885680" cy="992520"/>
            <a:chOff x="2738880" y="2133720"/>
            <a:chExt cx="1885680" cy="992520"/>
          </a:xfrm>
        </p:grpSpPr>
        <p:sp>
          <p:nvSpPr>
            <p:cNvPr id="47" name=""/>
            <p:cNvSpPr/>
            <p:nvPr/>
          </p:nvSpPr>
          <p:spPr>
            <a:xfrm>
              <a:off x="2738880" y="2338200"/>
              <a:ext cx="18856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440" y="2727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54120" y="213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efficie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57200" indent="-1713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19760" y="1219320"/>
            <a:ext cx="2242440" cy="992520"/>
            <a:chOff x="3119760" y="1219320"/>
            <a:chExt cx="2242440" cy="992520"/>
          </a:xfrm>
        </p:grpSpPr>
        <p:sp>
          <p:nvSpPr>
            <p:cNvPr id="53" name=""/>
            <p:cNvSpPr/>
            <p:nvPr/>
          </p:nvSpPr>
          <p:spPr>
            <a:xfrm>
              <a:off x="3119760" y="1424160"/>
              <a:ext cx="2242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(x)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23440" y="18129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1680" y="1219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238760" y="3352680"/>
            <a:ext cx="4839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3840" y="457200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efficie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 indent="-1314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50280" indent="-1314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5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nes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 indent="-1314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points, there is a unique polynomia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119760" y="1219320"/>
            <a:ext cx="2242440" cy="992520"/>
            <a:chOff x="3119760" y="1219320"/>
            <a:chExt cx="2242440" cy="992520"/>
          </a:xfrm>
        </p:grpSpPr>
        <p:sp>
          <p:nvSpPr>
            <p:cNvPr id="61" name=""/>
            <p:cNvSpPr/>
            <p:nvPr/>
          </p:nvSpPr>
          <p:spPr>
            <a:xfrm>
              <a:off x="3119760" y="1424160"/>
              <a:ext cx="2242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(x)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23440" y="18129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1219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38760" y="3352680"/>
            <a:ext cx="4839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03840" y="457200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0120" y="3127320"/>
            <a:ext cx="2822760" cy="1191240"/>
          </a:xfrm>
          <a:prstGeom prst="leftArrowCallout">
            <a:avLst>
              <a:gd name="adj1" fmla="val 14437"/>
              <a:gd name="adj2" fmla="val 19116"/>
              <a:gd name="adj3" fmla="val 9116"/>
              <a:gd name="adj4" fmla="val 90995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30360" y="4572000"/>
            <a:ext cx="2545920" cy="97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distinc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29200" y="4495320"/>
            <a:ext cx="990720" cy="2286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nes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points, there is a unique polynomia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8760" y="2054160"/>
            <a:ext cx="4839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3840" y="327348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7720" y="4267080"/>
            <a:ext cx="7642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5200" y="1295280"/>
            <a:ext cx="599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70800" y="1905120"/>
            <a:ext cx="5825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1040" y="3124080"/>
            <a:ext cx="8630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-15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 time multiplic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360" y="426708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9840" y="129528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5680" y="3124080"/>
            <a:ext cx="8452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0640" y="1752480"/>
            <a:ext cx="2770200" cy="97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16848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B require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end A, B with addition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1440" y="353520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9840" y="129528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onversion to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y are we both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9-10-19T02:09:34Z</cp:lastPrinted>
  <dcterms:modified xsi:type="dcterms:W3CDTF">1999-10-19T05:25:38Z</dcterms:modified>
  <cp:revision>26</cp:revision>
  <dc:subject/>
  <dc:title>PLSD210(ii)</dc:title>
</cp:coreProperties>
</file>