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3972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3640" y="114300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3972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3640" y="4008960"/>
            <a:ext cx="252720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07720" y="400896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143000"/>
            <a:ext cx="383004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08960"/>
            <a:ext cx="78487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A406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Experimental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rror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Random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peat a measuremen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viations from mean are random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clock resolution can produce the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tim_quant" descr=""/>
          <p:cNvPicPr/>
          <p:nvPr/>
        </p:nvPicPr>
        <p:blipFill>
          <a:blip r:embed="rId1"/>
          <a:stretch/>
        </p:blipFill>
        <p:spPr>
          <a:xfrm>
            <a:off x="838080" y="3089160"/>
            <a:ext cx="7620120" cy="29307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57800" y="5943600"/>
            <a:ext cx="79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t = 0.8*(timer resolution) randomly reported as 0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rror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ystematic err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sults are perturbed in one direction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S will interru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imes are lengthe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Error Redu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educe quantisation effec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dt &gt;&gt; timer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Make several measuremen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minimu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likely to have OS contribution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mea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ludes average amount of OS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enerating conclusion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e errors fir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dd error bars before fitting curv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ame data - different errors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68" name="fit" descr=""/>
          <p:cNvPicPr/>
          <p:nvPr/>
        </p:nvPicPr>
        <p:blipFill>
          <a:blip r:embed="rId1"/>
          <a:stretch/>
        </p:blipFill>
        <p:spPr>
          <a:xfrm>
            <a:off x="228600" y="2789280"/>
            <a:ext cx="8153280" cy="33066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445040" y="601992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 curve f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4040" y="601992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ear relation i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Generating conclusions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your original hypothesis suggested a linear relation, failure to adequately allow for error would have sent you off on a fruitless search for a new hypothesi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  <p:pic>
        <p:nvPicPr>
          <p:cNvPr id="173" name="fit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153280" cy="3306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92400" y="4267080"/>
            <a:ext cx="224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ly a curve fit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0000" y="426708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ear relation is 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ransform Data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your hypothe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u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nsform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data to linear for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O(n</a:t>
            </a:r>
            <a:r>
              <a:rPr b="1" lang="en-US" sz="2400" spc="-1" strike="noStrike" baseline="30000">
                <a:solidFill>
                  <a:srgbClr val="063de8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) algorithm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Running time for problem size n, 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(n) = c 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Divide experimental times, t(n) by n</a:t>
            </a:r>
            <a:r>
              <a:rPr b="1" lang="en-US" sz="2400" spc="-1" strike="noStrike" baseline="30000">
                <a:solidFill>
                  <a:srgbClr val="063de8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, 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the computer to generate a table of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rmalised</a:t>
            </a: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 data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s very good at these simple, boring task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’ll also print out a neat table for your repor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Presenting data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p -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mputer calculates result to 6 significant figure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Put these numbers directly in your repor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= 4.53456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63de8"/>
                </a:solidFill>
                <a:latin typeface="Arial"/>
              </a:rPr>
              <a:t>impl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4.53456 +/- 0.000005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bviously ridiculou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Accuracy of 1% would be excellent her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= 4.5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impl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4.5 +/- 0.05 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c012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sent a realistic number of significant figures in your report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Experimental Desig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d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aves Time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Gets better results!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ypothesis -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ssential starting po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Form one before doing the experiment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Use theory to predict results</a:t>
            </a:r>
            <a:endParaRPr b="1" lang="en-US" sz="2400" spc="-1" strike="noStrike">
              <a:solidFill>
                <a:srgbClr val="063de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for this program will be proportional to the size of the probl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ZapfChancery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ZapfChancery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n) running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heoretical Predic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 is linear in size of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981080" y="2666520"/>
            <a:ext cx="4038840" cy="312444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7200" y="3517920"/>
            <a:ext cx="1959120" cy="1387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Theoretical Prediction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t .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 will increase sharply when cache is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981080" y="4190760"/>
            <a:ext cx="2057400" cy="160020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8480" y="34290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8680" y="5105520"/>
            <a:ext cx="144504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3400" y="518148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133720" y="5181480"/>
            <a:ext cx="1828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15760" y="5105520"/>
            <a:ext cx="127440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2286000"/>
            <a:ext cx="1676520" cy="129528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038480" y="3581280"/>
            <a:ext cx="76320" cy="60984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2680" y="3657600"/>
            <a:ext cx="2751480" cy="441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Running time jump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57600" y="3429000"/>
            <a:ext cx="685800" cy="1066680"/>
          </a:xfrm>
          <a:prstGeom prst="ellipse">
            <a:avLst/>
          </a:prstGeom>
          <a:noFill/>
          <a:ln cap="rnd" w="3816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Refine the prediction!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 will increa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harply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 when cache is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ow sharpl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81080" y="4190760"/>
            <a:ext cx="2057400" cy="160020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34290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8680" y="5105520"/>
            <a:ext cx="144504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518148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2133720" y="5181480"/>
            <a:ext cx="1828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15760" y="5105520"/>
            <a:ext cx="127440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00400" y="1828800"/>
            <a:ext cx="1752480" cy="2971800"/>
          </a:xfrm>
          <a:custGeom>
            <a:avLst/>
            <a:gdLst/>
            <a:ahLst/>
            <a:rect l="l" t="t" r="r" b="b"/>
            <a:pathLst>
              <a:path w="1104" h="1872">
                <a:moveTo>
                  <a:pt x="0" y="1872"/>
                </a:moveTo>
                <a:cubicBezTo>
                  <a:pt x="160" y="1756"/>
                  <a:pt x="320" y="1640"/>
                  <a:pt x="480" y="1440"/>
                </a:cubicBezTo>
                <a:cubicBezTo>
                  <a:pt x="640" y="1240"/>
                  <a:pt x="856" y="912"/>
                  <a:pt x="960" y="672"/>
                </a:cubicBezTo>
                <a:cubicBezTo>
                  <a:pt x="1064" y="432"/>
                  <a:pt x="1084" y="216"/>
                  <a:pt x="1104" y="0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03960" y="2541600"/>
            <a:ext cx="2958840" cy="179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More like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You can probab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estimate the shap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this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Why not just do some measurements?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eriments are always subject to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4190760"/>
            <a:ext cx="2057400" cy="160020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38480" y="34290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8680" y="5105520"/>
            <a:ext cx="144504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518148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133720" y="5181480"/>
            <a:ext cx="1828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615760" y="5105520"/>
            <a:ext cx="127440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1828800"/>
            <a:ext cx="1752480" cy="2971800"/>
          </a:xfrm>
          <a:custGeom>
            <a:avLst/>
            <a:gdLst/>
            <a:ahLst/>
            <a:rect l="l" t="t" r="r" b="b"/>
            <a:pathLst>
              <a:path w="1104" h="1872">
                <a:moveTo>
                  <a:pt x="0" y="1872"/>
                </a:moveTo>
                <a:cubicBezTo>
                  <a:pt x="160" y="1756"/>
                  <a:pt x="320" y="1640"/>
                  <a:pt x="480" y="1440"/>
                </a:cubicBezTo>
                <a:cubicBezTo>
                  <a:pt x="640" y="1240"/>
                  <a:pt x="856" y="912"/>
                  <a:pt x="960" y="672"/>
                </a:cubicBezTo>
                <a:cubicBezTo>
                  <a:pt x="1064" y="432"/>
                  <a:pt x="1084" y="216"/>
                  <a:pt x="1104" y="0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8920" y="2438280"/>
            <a:ext cx="2261880" cy="779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xpec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p jump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3276720"/>
            <a:ext cx="609480" cy="76176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7080" y="3124080"/>
            <a:ext cx="2589480" cy="779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up to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27432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647960" y="3581280"/>
            <a:ext cx="60948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V="1">
            <a:off x="1981080" y="3568680"/>
            <a:ext cx="3643560" cy="219240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4640" y="2525760"/>
            <a:ext cx="0" cy="313056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4160" y="4836960"/>
            <a:ext cx="144504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894280" y="4925880"/>
            <a:ext cx="175428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51080" y="4925880"/>
            <a:ext cx="323856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95320" y="4836960"/>
            <a:ext cx="127440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33360"/>
            <a:ext cx="3103560" cy="4070520"/>
          </a:xfrm>
          <a:custGeom>
            <a:avLst/>
            <a:gdLst/>
            <a:ahLst/>
            <a:rect l="l" t="t" r="r" b="b"/>
            <a:pathLst>
              <a:path w="1104" h="1872">
                <a:moveTo>
                  <a:pt x="0" y="1872"/>
                </a:moveTo>
                <a:cubicBezTo>
                  <a:pt x="160" y="1756"/>
                  <a:pt x="320" y="1640"/>
                  <a:pt x="480" y="1440"/>
                </a:cubicBezTo>
                <a:cubicBezTo>
                  <a:pt x="640" y="1240"/>
                  <a:pt x="856" y="912"/>
                  <a:pt x="960" y="672"/>
                </a:cubicBezTo>
                <a:cubicBezTo>
                  <a:pt x="1064" y="432"/>
                  <a:pt x="1084" y="216"/>
                  <a:pt x="1104" y="0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3920" y="228600"/>
            <a:ext cx="944640" cy="19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16080" y="2525400"/>
            <a:ext cx="4452840" cy="323532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45000" y="3673440"/>
            <a:ext cx="405000" cy="312840"/>
          </a:xfrm>
          <a:custGeom>
            <a:avLst/>
            <a:gdLst>
              <a:gd name="textAreaLeft" fmla="*/ 166680 w 405000"/>
              <a:gd name="textAreaRight" fmla="*/ 238320 w 405000"/>
              <a:gd name="textAreaTop" fmla="*/ 128880 h 312840"/>
              <a:gd name="textAreaBottom" fmla="*/ 18396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0360" y="3881520"/>
            <a:ext cx="404640" cy="31428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9600 h 314280"/>
              <a:gd name="textAreaBottom" fmla="*/ 1846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21080" y="5238720"/>
            <a:ext cx="404640" cy="31284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8880 h 312840"/>
              <a:gd name="textAreaBottom" fmla="*/ 18396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60720" y="4613400"/>
            <a:ext cx="404640" cy="31248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8880 h 312480"/>
              <a:gd name="textAreaBottom" fmla="*/ 183600 h 31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86200" y="4419720"/>
            <a:ext cx="404640" cy="31248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8880 h 312480"/>
              <a:gd name="textAreaBottom" fmla="*/ 183600 h 31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9640" y="3360600"/>
            <a:ext cx="404640" cy="31284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8880 h 312840"/>
              <a:gd name="textAreaBottom" fmla="*/ 18396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94280" y="2525760"/>
            <a:ext cx="405000" cy="312840"/>
          </a:xfrm>
          <a:custGeom>
            <a:avLst/>
            <a:gdLst>
              <a:gd name="textAreaLeft" fmla="*/ 166680 w 405000"/>
              <a:gd name="textAreaRight" fmla="*/ 238320 w 405000"/>
              <a:gd name="textAreaTop" fmla="*/ 128880 h 312840"/>
              <a:gd name="textAreaBottom" fmla="*/ 18396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0" y="1895400"/>
            <a:ext cx="404640" cy="314280"/>
          </a:xfrm>
          <a:custGeom>
            <a:avLst/>
            <a:gdLst>
              <a:gd name="textAreaLeft" fmla="*/ 166680 w 404640"/>
              <a:gd name="textAreaRight" fmla="*/ 237960 w 404640"/>
              <a:gd name="textAreaTop" fmla="*/ 129600 h 314280"/>
              <a:gd name="textAreaBottom" fmla="*/ 184680 h 314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Why not just do some measurements?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eriments are always subject to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1680" y="2660760"/>
            <a:ext cx="2588040" cy="77940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clear tren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fit a straight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3429000"/>
            <a:ext cx="685800" cy="83808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7160" y="1828800"/>
            <a:ext cx="2868840" cy="44136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al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24480" y="2795760"/>
            <a:ext cx="1902600" cy="125208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 sh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jump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No cach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943600" y="3276360"/>
            <a:ext cx="457200" cy="15228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965480" y="3809880"/>
            <a:ext cx="2556360" cy="441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up to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Why not just do some measurements?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ake sure to carry the experiment far enough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220968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867280"/>
            <a:ext cx="541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2160" y="2895480"/>
            <a:ext cx="74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97520" y="601992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 of problem -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981080" y="4190760"/>
            <a:ext cx="2057400" cy="1600200"/>
          </a:xfrm>
          <a:prstGeom prst="line">
            <a:avLst/>
          </a:prstGeom>
          <a:ln w="28440">
            <a:solidFill>
              <a:srgbClr val="fc01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34290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8680" y="5105520"/>
            <a:ext cx="144504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overfl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181480"/>
            <a:ext cx="99072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133720" y="5181480"/>
            <a:ext cx="1828800" cy="0"/>
          </a:xfrm>
          <a:prstGeom prst="line">
            <a:avLst/>
          </a:prstGeom>
          <a:ln w="38160">
            <a:solidFill>
              <a:srgbClr val="063de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15760" y="5105520"/>
            <a:ext cx="1274400" cy="77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Data 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in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828800"/>
            <a:ext cx="1752480" cy="2971800"/>
          </a:xfrm>
          <a:custGeom>
            <a:avLst/>
            <a:gdLst/>
            <a:ahLst/>
            <a:rect l="l" t="t" r="r" b="b"/>
            <a:pathLst>
              <a:path w="1104" h="1872">
                <a:moveTo>
                  <a:pt x="0" y="1872"/>
                </a:moveTo>
                <a:cubicBezTo>
                  <a:pt x="160" y="1756"/>
                  <a:pt x="320" y="1640"/>
                  <a:pt x="480" y="1440"/>
                </a:cubicBezTo>
                <a:cubicBezTo>
                  <a:pt x="640" y="1240"/>
                  <a:pt x="856" y="912"/>
                  <a:pt x="960" y="672"/>
                </a:cubicBezTo>
                <a:cubicBezTo>
                  <a:pt x="1064" y="432"/>
                  <a:pt x="1084" y="216"/>
                  <a:pt x="1104" y="0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4160" y="4191120"/>
            <a:ext cx="2656080" cy="145548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o sharp ju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harp incre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s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0128"/>
                </a:solidFill>
                <a:latin typeface="Arial"/>
              </a:rPr>
              <a:t>as predict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08520" y="2666880"/>
            <a:ext cx="3034080" cy="1117440"/>
          </a:xfrm>
          <a:prstGeom prst="roundRect">
            <a:avLst>
              <a:gd name="adj" fmla="val 16667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but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sure as far a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it’s clea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743200"/>
            <a:ext cx="0" cy="2286000"/>
          </a:xfrm>
          <a:prstGeom prst="line">
            <a:avLst/>
          </a:prstGeom>
          <a:ln cap="rnd" w="38160">
            <a:solidFill>
              <a:srgbClr val="063de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5105160" y="1905120"/>
            <a:ext cx="990360" cy="91440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24280" y="23623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3429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5029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0" y="5410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3733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45720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600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648320" y="4038480"/>
            <a:ext cx="304560" cy="0"/>
          </a:xfrm>
          <a:prstGeom prst="line">
            <a:avLst/>
          </a:prstGeom>
          <a:ln w="3816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52280" y="1143000"/>
          <a:ext cx="7772400" cy="516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7772400" cy="51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 flipH="1">
            <a:off x="4723920" y="2362320"/>
            <a:ext cx="22100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63de8"/>
                </a:solidFill>
                <a:latin typeface="Arial"/>
              </a:rPr>
              <a:t>Cache Problem</a:t>
            </a:r>
            <a:endParaRPr b="1" i="1" lang="en-US" sz="3200" spc="-1" strike="noStrike">
              <a:solidFill>
                <a:srgbClr val="063de8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09680"/>
            <a:ext cx="0" cy="2362320"/>
          </a:xfrm>
          <a:prstGeom prst="line">
            <a:avLst/>
          </a:prstGeom>
          <a:ln w="12600">
            <a:solidFill>
              <a:srgbClr val="fc012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49720" y="457200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1 Cach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81680" y="1978200"/>
            <a:ext cx="2130480" cy="1117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 Shap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simpl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22:52:56Z</dcterms:created>
  <dc:creator>jm</dc:creator>
  <dc:description/>
  <cp:keywords>cache</cp:keywords>
  <dc:language>en-US</dc:language>
  <cp:lastModifiedBy>jm</cp:lastModifiedBy>
  <cp:lastPrinted>1998-03-23T17:17:56Z</cp:lastPrinted>
  <dcterms:modified xsi:type="dcterms:W3CDTF">1999-03-29T04:32:12Z</dcterms:modified>
  <cp:revision>15</cp:revision>
  <dc:subject>cache</dc:subject>
  <dc:title>CA406 cache</dc:title>
</cp:coreProperties>
</file>