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SD2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lve the small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tore the solu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those solutions for larger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 Fibonac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n 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v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for the recursive cas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0800" y="4178160"/>
            <a:ext cx="7560720" cy="1320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other case where not knowing your algorithm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uld lea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extreme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professional embarrassm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Structur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 of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olynomia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t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tractabl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k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r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!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ivide and Conqu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 Sort;   Binary Search;  .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ynamic Algorith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a divide phase doesn’t work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 divide original problem into sufficiently small sub-probl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lculate Fibonacci number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imple, elegant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t .... Let’s analyze it’s performanc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6960" y="1828800"/>
            <a:ext cx="58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ib( int n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n &lt; 2 ) return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fib(n-1) + fib(n-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time to calculate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is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</a:t>
            </a:r>
            <a:br>
              <a:rPr sz="2000"/>
            </a:b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ow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6320" y="838080"/>
            <a:ext cx="4905000" cy="1618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ib( int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n &lt; 2 ) 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ib(n-1) + fib(n-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bu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therefor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nd this is definitely not an efficient algorithm!!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0280" y="838080"/>
            <a:ext cx="4905000" cy="1618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ib( int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n &lt; 2 ) 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ib(n-1) + fib(n-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17360" y="2514600"/>
            <a:ext cx="4862520" cy="1049760"/>
            <a:chOff x="1917360" y="2514600"/>
            <a:chExt cx="4862520" cy="1049760"/>
          </a:xfrm>
        </p:grpSpPr>
        <p:grpSp>
          <p:nvGrpSpPr>
            <p:cNvPr id="52" name=""/>
            <p:cNvGrpSpPr/>
            <p:nvPr/>
          </p:nvGrpSpPr>
          <p:grpSpPr>
            <a:xfrm>
              <a:off x="1917360" y="2714400"/>
              <a:ext cx="825480" cy="723240"/>
              <a:chOff x="1917360" y="2714400"/>
              <a:chExt cx="825480" cy="723240"/>
            </a:xfrm>
          </p:grpSpPr>
          <p:sp>
            <p:nvSpPr>
              <p:cNvPr id="53" name=""/>
              <p:cNvSpPr/>
              <p:nvPr/>
            </p:nvSpPr>
            <p:spPr>
              <a:xfrm>
                <a:off x="2027160" y="2714400"/>
                <a:ext cx="60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917360" y="297792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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788560" y="2520720"/>
              <a:ext cx="571320" cy="1043640"/>
              <a:chOff x="2788560" y="2520720"/>
              <a:chExt cx="571320" cy="1043640"/>
            </a:xfrm>
          </p:grpSpPr>
          <p:sp>
            <p:nvSpPr>
              <p:cNvPr id="56" name=""/>
              <p:cNvSpPr/>
              <p:nvPr/>
            </p:nvSpPr>
            <p:spPr>
              <a:xfrm>
                <a:off x="2788560" y="2520720"/>
                <a:ext cx="571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+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882160" y="3054240"/>
                <a:ext cx="38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07640" y="305424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982680" y="2514600"/>
              <a:ext cx="974520" cy="999360"/>
              <a:chOff x="3982680" y="2514600"/>
              <a:chExt cx="974520" cy="999360"/>
            </a:xfrm>
          </p:grpSpPr>
          <p:sp>
            <p:nvSpPr>
              <p:cNvPr id="60" name=""/>
              <p:cNvSpPr/>
              <p:nvPr/>
            </p:nvSpPr>
            <p:spPr>
              <a:xfrm>
                <a:off x="3982680" y="2514600"/>
                <a:ext cx="97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303080" y="3054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029840" y="3054240"/>
                <a:ext cx="87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5206320" y="2825640"/>
              <a:ext cx="157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 1.618 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13960" y="2825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79720" y="40384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33920" y="4038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1.618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876920" y="685800"/>
            <a:ext cx="3124080" cy="18288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952520" y="685800"/>
            <a:ext cx="3124440" cy="18288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ll know how to calculate Fibonacci numb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8480" y="1523880"/>
            <a:ext cx="4752720" cy="375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ib( int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1, f2, f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if ( n &lt; 2 ) 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= f2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k = 2; k &lt; n; k++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f1 + f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 = f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=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ll know how to calculate Fibonacci numb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8480" y="1523880"/>
            <a:ext cx="4752720" cy="375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ib( int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1, f2, f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if ( n &lt; 2 ) 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= f2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k = 2; k &lt; n; k++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f1 + f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 = f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=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77200" y="1849320"/>
            <a:ext cx="4966200" cy="459000"/>
          </a:xfrm>
          <a:prstGeom prst="leftArrowCallout">
            <a:avLst>
              <a:gd name="adj1" fmla="val 25002"/>
              <a:gd name="adj2" fmla="val 25000"/>
              <a:gd name="adj3" fmla="val 180327"/>
              <a:gd name="adj4" fmla="val 6667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1, f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13200" y="2514600"/>
            <a:ext cx="4449240" cy="763920"/>
          </a:xfrm>
          <a:prstGeom prst="leftArrowCallout">
            <a:avLst>
              <a:gd name="adj1" fmla="val 25002"/>
              <a:gd name="adj2" fmla="val 25000"/>
              <a:gd name="adj3" fmla="val 97070"/>
              <a:gd name="adj4" fmla="val 66673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start by solving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st 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99520" y="3505320"/>
            <a:ext cx="3359880" cy="1069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use thos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olve bigger and b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ll know how to calculate Fibonacci numb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8480" y="1523880"/>
            <a:ext cx="4752720" cy="375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ib( int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1, f2, f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if ( n &lt; 2 ) 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= f2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k = 2; k &lt; n; k++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f1 + f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 = f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=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77200" y="1849320"/>
            <a:ext cx="4966200" cy="459000"/>
          </a:xfrm>
          <a:prstGeom prst="leftArrowCallout">
            <a:avLst>
              <a:gd name="adj1" fmla="val 25002"/>
              <a:gd name="adj2" fmla="val 25000"/>
              <a:gd name="adj3" fmla="val 180327"/>
              <a:gd name="adj4" fmla="val 6667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1, f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8120" y="2590920"/>
            <a:ext cx="3359880" cy="1069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use thos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olve bigger and b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1400" y="3809880"/>
            <a:ext cx="3728520" cy="131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every stag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retain th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previous two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3657600"/>
            <a:ext cx="2057400" cy="762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09880" y="4038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lve the small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tore the solu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those solutions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 solve larger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 Fibonac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n 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v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for the recursive cas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8880" y="1447920"/>
            <a:ext cx="3916800" cy="1008000"/>
          </a:xfrm>
          <a:prstGeom prst="leftArrowCallout">
            <a:avLst>
              <a:gd name="adj1" fmla="val 13372"/>
              <a:gd name="adj2" fmla="val 17782"/>
              <a:gd name="adj3" fmla="val 35817"/>
              <a:gd name="adj4" fmla="val 66673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ree lunc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00:58:10Z</dcterms:created>
  <dc:creator>jm</dc:creator>
  <dc:description/>
  <dc:language>en-US</dc:language>
  <cp:lastModifiedBy>jm</cp:lastModifiedBy>
  <cp:lastPrinted>1998-08-24T16:56:18Z</cp:lastPrinted>
  <dcterms:modified xsi:type="dcterms:W3CDTF">1998-08-30T10:34:44Z</dcterms:modified>
  <cp:revision>47</cp:revision>
  <dc:subject/>
  <dc:title>Data Structures and Algorithms</dc:title>
</cp:coreProperties>
</file>