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-Source Shortes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ijkstra’s Algorith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oop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8520" y="1219320"/>
            <a:ext cx="2279160" cy="764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a graph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sourc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2133720"/>
            <a:ext cx="8257680" cy="2838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est_paths( Graph g, Nod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se_single_source( g,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{ 0 }        /* Make S emp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:= Vertices( g ) /* Put the vertices in a PQ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not Empty(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 := ExtractCheapest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Node( S, u ); /* Add u to 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vertex v in Adjacent( 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ax( u, v, w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4440" y="3657600"/>
            <a:ext cx="3246480" cy="398880"/>
          </a:xfrm>
          <a:prstGeom prst="leftArrowCallout">
            <a:avLst>
              <a:gd name="adj1" fmla="val 18983"/>
              <a:gd name="adj2" fmla="val 30292"/>
              <a:gd name="adj3" fmla="val 73326"/>
              <a:gd name="adj4" fmla="val 43861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d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2209680"/>
            <a:ext cx="2330640" cy="1055520"/>
          </a:xfrm>
          <a:prstGeom prst="downArrowCallout">
            <a:avLst>
              <a:gd name="adj1" fmla="val 55206"/>
              <a:gd name="adj2" fmla="val 55201"/>
              <a:gd name="adj3" fmla="val 16667"/>
              <a:gd name="adj4" fmla="val 66667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there are still nodes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3429000"/>
            <a:ext cx="3200400" cy="304920"/>
          </a:xfrm>
          <a:prstGeom prst="rect">
            <a:avLst/>
          </a:prstGeom>
          <a:noFill/>
          <a:ln w="38160">
            <a:solidFill>
              <a:srgbClr val="063d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lax neighbour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8520" y="1219320"/>
            <a:ext cx="2279160" cy="764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a graph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sourc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2680" y="2133720"/>
            <a:ext cx="8257680" cy="2838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est_paths( Graph g, Nod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se_single_source( g,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{ 0 }        /* Make S emp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:= Vertices( g ) /* Put the vertices in a PQ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not Empty(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 := ExtractCheapest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Node( S, u ); /* Add u to 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vertex v in Adjacent( 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ax( u, v, w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44440" y="3657600"/>
            <a:ext cx="3246480" cy="398880"/>
          </a:xfrm>
          <a:prstGeom prst="leftArrowCallout">
            <a:avLst>
              <a:gd name="adj1" fmla="val 18983"/>
              <a:gd name="adj2" fmla="val 30292"/>
              <a:gd name="adj3" fmla="val 73326"/>
              <a:gd name="adj4" fmla="val 43861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d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600200"/>
            <a:ext cx="2330280" cy="2563560"/>
          </a:xfrm>
          <a:prstGeom prst="downArrowCallout">
            <a:avLst>
              <a:gd name="adj1" fmla="val 13899"/>
              <a:gd name="adj2" fmla="val 18394"/>
              <a:gd name="adj3" fmla="val 19155"/>
              <a:gd name="adj4" fmla="val 63139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the estimate of the shortest paths to all nodes attached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343400"/>
            <a:ext cx="5334120" cy="609480"/>
          </a:xfrm>
          <a:prstGeom prst="rect">
            <a:avLst/>
          </a:prstGeom>
          <a:noFill/>
          <a:ln w="38160">
            <a:solidFill>
              <a:srgbClr val="063d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1752480"/>
            <a:ext cx="2330640" cy="76464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to all nodes mark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ij1" descr=""/>
          <p:cNvPicPr/>
          <p:nvPr/>
        </p:nvPicPr>
        <p:blipFill>
          <a:blip r:embed="rId1"/>
          <a:stretch/>
        </p:blipFill>
        <p:spPr>
          <a:xfrm flipH="1">
            <a:off x="1447560" y="1295280"/>
            <a:ext cx="3429000" cy="3343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2680" y="1371600"/>
            <a:ext cx="132912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209680"/>
            <a:ext cx="30492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96" name="dij1" descr=""/>
          <p:cNvPicPr/>
          <p:nvPr/>
        </p:nvPicPr>
        <p:blipFill>
          <a:blip r:embed="rId1"/>
          <a:stretch/>
        </p:blipFill>
        <p:spPr>
          <a:xfrm flipH="1">
            <a:off x="1218960" y="1143000"/>
            <a:ext cx="3429000" cy="3343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5560" y="1676520"/>
            <a:ext cx="108576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ij2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429000" cy="3344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0" y="243828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4343400"/>
            <a:ext cx="3657600" cy="70380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 vertices adjacent to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03" name="dij1" descr=""/>
          <p:cNvPicPr/>
          <p:nvPr/>
        </p:nvPicPr>
        <p:blipFill>
          <a:blip r:embed="rId1"/>
          <a:stretch/>
        </p:blipFill>
        <p:spPr>
          <a:xfrm flipH="1">
            <a:off x="1218960" y="1143000"/>
            <a:ext cx="3429000" cy="3343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5560" y="1676520"/>
            <a:ext cx="108576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dij2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429000" cy="334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0" y="243828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43400"/>
            <a:ext cx="281952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arrows s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de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10" name="dij2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429000" cy="3344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is now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dij3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353040" cy="3268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91120" y="259092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267080"/>
            <a:ext cx="2895840" cy="70380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 vertices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oose clos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553080" y="403812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18" name="dij2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429000" cy="33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is now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dij3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353040" cy="3268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91120" y="259092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38862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914400"/>
            <a:ext cx="2819160" cy="100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cause a shorter path vi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1676520"/>
            <a:ext cx="4572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4267080"/>
            <a:ext cx="2819520" cy="100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cause a shorter path vi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28" name="dij2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429000" cy="334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is now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dij3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353040" cy="3268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91120" y="259092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8862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209680"/>
            <a:ext cx="281916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’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decessor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14600"/>
            <a:ext cx="838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267080"/>
            <a:ext cx="2819520" cy="100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cause a shorter path vi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38" name="dij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352680" cy="326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91120" y="259092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553080" y="403812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676520"/>
            <a:ext cx="4572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dij4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200400" cy="3119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w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,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4267080"/>
            <a:ext cx="2895840" cy="70380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 vertices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oose clos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47" name="dij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352680" cy="3268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038480" y="274320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53080" y="403812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1676520"/>
            <a:ext cx="4572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j4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200400" cy="3119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w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,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495680"/>
            <a:ext cx="2895480" cy="70380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 vertices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oose clos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144792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457200"/>
            <a:ext cx="2819520" cy="100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cause a shorter path vi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hortest Path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a graph in which edges have costs 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d the shortest path from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ourc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stin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Surprisingly 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finding the shortest path from a source to one destinatio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 can find the shortest paths to all over destinations as well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mmon algorithm for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ingle-source shortest path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s due to Edsge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jkstr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74320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53080" y="403812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676520"/>
            <a:ext cx="4572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dij4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200400" cy="311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w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, x, 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144792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dij5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352680" cy="3268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10080" y="4343400"/>
            <a:ext cx="2895840" cy="70380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 vertices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oose closest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dij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352680" cy="3268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274320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553080" y="403812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676520"/>
            <a:ext cx="4572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w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, x, y, 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144792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dij6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3353040" cy="3268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029200" y="4343400"/>
            <a:ext cx="289548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ly ad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ij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352680" cy="3268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743200"/>
            <a:ext cx="457200" cy="0"/>
          </a:xfrm>
          <a:prstGeom prst="line">
            <a:avLst/>
          </a:prstGeom>
          <a:ln w="7632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553080" y="4038120"/>
            <a:ext cx="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1676520"/>
            <a:ext cx="4572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343400"/>
            <a:ext cx="281952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w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, x, y, 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144792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dij6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3353040" cy="3268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876920" y="4267080"/>
            <a:ext cx="350496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decessors show shortest paths sub-grap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of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dy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of by contradiction bes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mma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hortest paths are composed of shortest path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here was a shorter path than any sub-path, then substitution of that path would make the whole path short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of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o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,v)   -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cost of the shortest path 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mma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a shortest path fro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aft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has been added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x(u,v,w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alle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v]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v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v]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not changed thereafter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llows from the fact that at all tim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v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v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e Cormen (or any other text) for the detail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of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Lemma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fter running Dijkstra’s algorithm, we assert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[v]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,v)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by contradi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ppose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the first vertex added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or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u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u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t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o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s]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must be a pa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u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uld b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ere’s a path, there must be a shortest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dij-proof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48120" cy="2709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of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by contradi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ppose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the first vertex added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for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u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u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e the shortest pa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s 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s the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rst outsi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as added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, d[x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x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d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as relaxed at that time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y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y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j-proof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048120" cy="2709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roof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by contradi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d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as relaxed at that time,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y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y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u)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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u]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, when we ch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u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o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-S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[u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y]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otherwise we would have chos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us the inequalities must be equaliti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y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y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u)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u]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d our hypothesi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u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,u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) is contradicted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ime Complexity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imilar to MST algorithm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Key step is sort on the edg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lexity i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(|E|+|V|)log|V| 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 a dense graph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|V|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Data Structur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raph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= ( V, 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keep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s of verti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Vertices whose shortest paths have already been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   determined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Remaind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 Best estimates of shortest path to each vertex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 Predecessors for each vertex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redecessor Sub-graph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of vertex indices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j],  j = 1 .. |V|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j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ontains the pre-decessor for no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redecessor is in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j]]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nd so on ....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dges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in the pre-decessor sub-graph are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j], j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Oper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each verte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j,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=  n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urce distanc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emp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t emp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base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the closest vertex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la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ll the vertices still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onnect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4480" y="1981080"/>
            <a:ext cx="4447800" cy="459720"/>
          </a:xfrm>
          <a:prstGeom prst="leftArrowCallout">
            <a:avLst>
              <a:gd name="adj1" fmla="val 25002"/>
              <a:gd name="adj2" fmla="val 25000"/>
              <a:gd name="adj3" fmla="val 85955"/>
              <a:gd name="adj4" fmla="val 73618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estimates are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42080" y="2438280"/>
            <a:ext cx="3364200" cy="398880"/>
          </a:xfrm>
          <a:prstGeom prst="leftArrowCallout">
            <a:avLst>
              <a:gd name="adj1" fmla="val 28466"/>
              <a:gd name="adj2" fmla="val 32847"/>
              <a:gd name="adj3" fmla="val 109097"/>
              <a:gd name="adj4" fmla="val 64029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ne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9360" y="4572000"/>
            <a:ext cx="2013480" cy="398880"/>
          </a:xfrm>
          <a:prstGeom prst="leftArrowCallout">
            <a:avLst>
              <a:gd name="adj1" fmla="val 25002"/>
              <a:gd name="adj2" fmla="val 25000"/>
              <a:gd name="adj3" fmla="val 44846"/>
              <a:gd name="adj4" fmla="val 73618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r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Oper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each verte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j,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=  n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urce distanc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emp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t emp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base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the closest vertex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la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ll the vertices still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onnect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4480" y="1981080"/>
            <a:ext cx="4447800" cy="459720"/>
          </a:xfrm>
          <a:prstGeom prst="leftArrowCallout">
            <a:avLst>
              <a:gd name="adj1" fmla="val 25002"/>
              <a:gd name="adj2" fmla="val 25000"/>
              <a:gd name="adj3" fmla="val 85955"/>
              <a:gd name="adj4" fmla="val 73618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estimates are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42080" y="2438280"/>
            <a:ext cx="3364200" cy="398880"/>
          </a:xfrm>
          <a:prstGeom prst="leftArrowCallout">
            <a:avLst>
              <a:gd name="adj1" fmla="val 28466"/>
              <a:gd name="adj2" fmla="val 32847"/>
              <a:gd name="adj3" fmla="val 109097"/>
              <a:gd name="adj4" fmla="val 64029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ne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09360" y="4572000"/>
            <a:ext cx="2013480" cy="398880"/>
          </a:xfrm>
          <a:prstGeom prst="leftArrowCallout">
            <a:avLst>
              <a:gd name="adj1" fmla="val 25002"/>
              <a:gd name="adj2" fmla="val 25000"/>
              <a:gd name="adj3" fmla="val 44846"/>
              <a:gd name="adj4" fmla="val 73618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r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Oper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laxati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9400" y="1343160"/>
            <a:ext cx="2506680" cy="764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 the no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ed to no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2438280"/>
            <a:ext cx="581940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ax( Node u, Node v, double w[][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[v] &gt; d[u] + w[u,v]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v] := d[u] + w[u,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[v] :=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50720" y="2286000"/>
            <a:ext cx="3165840" cy="1313640"/>
          </a:xfrm>
          <a:prstGeom prst="leftArrowCallout">
            <a:avLst>
              <a:gd name="adj1" fmla="val 7056"/>
              <a:gd name="adj2" fmla="val 10352"/>
              <a:gd name="adj3" fmla="val 20641"/>
              <a:gd name="adj4" fmla="val 73618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current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 to v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er tha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through u 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676520"/>
            <a:ext cx="2330640" cy="834120"/>
          </a:xfrm>
          <a:prstGeom prst="downArrowCallout">
            <a:avLst>
              <a:gd name="adj1" fmla="val 69860"/>
              <a:gd name="adj2" fmla="val 69853"/>
              <a:gd name="adj3" fmla="val 16667"/>
              <a:gd name="adj4" fmla="val 47838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ge cost matr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433680"/>
            <a:ext cx="2330280" cy="1074600"/>
          </a:xfrm>
          <a:prstGeom prst="upArrowCallout">
            <a:avLst>
              <a:gd name="adj1" fmla="val 22169"/>
              <a:gd name="adj2" fmla="val 25410"/>
              <a:gd name="adj3" fmla="val 19435"/>
              <a:gd name="adj4" fmla="val 69068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estimate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699000"/>
            <a:ext cx="2971800" cy="1472760"/>
          </a:xfrm>
          <a:prstGeom prst="upArrowCallout">
            <a:avLst>
              <a:gd name="adj1" fmla="val 20629"/>
              <a:gd name="adj2" fmla="val 23644"/>
              <a:gd name="adj3" fmla="val 19435"/>
              <a:gd name="adj4" fmla="val 104473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ecess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Full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360" y="1523880"/>
            <a:ext cx="41644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a graph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sourc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2680" y="2133720"/>
            <a:ext cx="8257680" cy="2838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est_paths( Graph g, Nod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se_single_source( g,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{ 0 }        /* Make S emp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:= Vertices( g ) /* Put the vertices in a PQ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not Empty(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 := ExtractCheapest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Node( S, u ); /* Add u to 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vertex v in Adjacent( 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ax( u, v, w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jkstra’s Algorithm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itialis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8520" y="1219320"/>
            <a:ext cx="2279160" cy="764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a graph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sourc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2680" y="2133720"/>
            <a:ext cx="8257680" cy="2838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est_paths( Graph g, Nod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se_single_source( g,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{ 0 }        /* Make S emp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:= Vertices( g ) /* Put the vertices in a PQ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not Empty(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 := ExtractCheapest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Node( S, u ); /* Add u to 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vertex v in Adjacent( 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ax( u, v, w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371600"/>
            <a:ext cx="2330280" cy="1055520"/>
          </a:xfrm>
          <a:prstGeom prst="downArrowCallout">
            <a:avLst>
              <a:gd name="adj1" fmla="val 55198"/>
              <a:gd name="adj2" fmla="val 55193"/>
              <a:gd name="adj3" fmla="val 16667"/>
              <a:gd name="adj4" fmla="val 66667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514600"/>
            <a:ext cx="7696080" cy="914400"/>
          </a:xfrm>
          <a:prstGeom prst="rect">
            <a:avLst/>
          </a:prstGeom>
          <a:noFill/>
          <a:ln w="3816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9-13T15:52:06Z</cp:lastPrinted>
  <dcterms:modified xsi:type="dcterms:W3CDTF">1998-10-05T15:20:56Z</dcterms:modified>
  <cp:revision>20</cp:revision>
  <dc:subject/>
  <dc:title>PLSD210(ii)</dc:title>
</cp:coreProperties>
</file>